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955-3C0A-4BB6-ADCF-881D9682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570-3BE3-4AC6-B7E2-AD4EA133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10A-5F3D-4021-B662-CBB13C99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A33-2614-4AE4-AD3F-A77582D8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C1F1-71D1-46B1-AEF0-B648BBEF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8612-2088-4034-A27A-7B523BD7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CF55-9754-4996-BE7C-93CCC00E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573B-8FD9-42C5-AD60-D7734043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D560-1933-466F-BCB2-BAFB2781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357C-20D4-4D4C-B8F8-CF300F93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2F23-0291-409B-8D3F-D56C9046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BBC-EF79-4F6F-9BE6-1050D102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5D9E-9002-4B52-A017-4C228FF8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F737-F5D9-46CA-BD36-82030503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335E-8EB5-4247-BF0E-107658D4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515D-1470-452A-81C0-E801F22A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BAFA-3BD5-450D-929D-3E0E5775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F8E-3B8F-43CD-8835-27C451BF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B9F-3F23-469A-A9A8-F0E5D3D1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257-A7C8-4617-9AF3-A507FA08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6418-B397-495B-A32F-45D860FA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BB3-7AA2-457B-96DE-9CDF365B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111-C6DB-43F8-A29D-18F87E5B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270-B03E-42ED-B714-2AF3E4F6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B5D4-B9E3-42F8-8FB8-5A733B210C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4547-1083-4D29-ADD1-9895F4925E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783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Антон Павлович Чехов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Картинка 13 из 6588"/>
          <p:cNvPicPr/>
          <p:nvPr/>
        </p:nvPicPr>
        <p:blipFill>
          <a:blip r:embed="rId1"/>
          <a:stretch/>
        </p:blipFill>
        <p:spPr>
          <a:xfrm>
            <a:off x="2627280" y="1916280"/>
            <a:ext cx="34466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23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24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24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25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25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27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28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28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31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31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2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8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7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3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494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6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497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500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501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502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4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5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506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507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9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0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511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512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5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516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517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9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3" dur="indefinite" restart="never" nodeType="tmRoot">
          <p:childTnLst>
            <p:seq>
              <p:cTn id="2864" dur="indefinite" nodeType="mainSeq">
                <p:childTnLst>
                  <p:par>
                    <p:cTn id="2865" fill="hold">
                      <p:stCondLst>
                        <p:cond delay="0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68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1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4" dur="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8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1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4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86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2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6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8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4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8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10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4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16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0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2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6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8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2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34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8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1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3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6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0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2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6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8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2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4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8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0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4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6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0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2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6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8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2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94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8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0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4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6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9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3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6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18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2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4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8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0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4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6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0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2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6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8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2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54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8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0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4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6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0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2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6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8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2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4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8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0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4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6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0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2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6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8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2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14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8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0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4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6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0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2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6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8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2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4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8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0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4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6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0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2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6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8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2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74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8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0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4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6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0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2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6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8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2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4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8" dur="5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0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4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6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0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2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6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8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2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34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8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0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4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6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0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52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6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58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2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4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8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0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53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5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53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0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54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5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54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55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5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57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57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57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60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8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60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1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7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9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5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786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8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789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1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792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793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794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6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7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798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799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1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803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804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6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7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808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809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1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4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9" dur="indefinite" restart="never" nodeType="tmRoot">
          <p:childTnLst>
            <p:seq>
              <p:cTn id="3270" dur="indefinite" nodeType="mainSeq">
                <p:childTnLst>
                  <p:par>
                    <p:cTn id="3271" fill="hold">
                      <p:stCondLst>
                        <p:cond delay="0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74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77" dur="500"/>
                                        <p:tgtEl>
                                          <p:spTgt spid="2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80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4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7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0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2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6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8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2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04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8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0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4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6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0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2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6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8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2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34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8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0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4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7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9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2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6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8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2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64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8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0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4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6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0" dur="500"/>
                                        <p:tgtEl>
                                          <p:spTgt spid="2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2" dur="500"/>
                                        <p:tgtEl>
                                          <p:spTgt spid="2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6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8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2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94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8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00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4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06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0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2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5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9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2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24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8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0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4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6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0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2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6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8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2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54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8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0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4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6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0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2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6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8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2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84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8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90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94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96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0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2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6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8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2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14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8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20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4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26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0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2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6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8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2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44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8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0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4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6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0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2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6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8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2" dur="5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74" dur="5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8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0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4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6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0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2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6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8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2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04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8" dur="5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10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4" dur="5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16" dur="5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0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2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6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8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2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34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8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0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6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0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2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6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8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2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64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8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70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4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2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82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82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2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83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7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83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2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84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1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86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4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86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86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89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0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90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0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6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1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7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078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0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081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084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085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086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8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9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090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091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3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4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095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096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8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9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100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101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3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4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6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5" dur="indefinite" restart="never" nodeType="tmRoot">
          <p:childTnLst>
            <p:seq>
              <p:cTn id="3676" dur="indefinite" nodeType="mainSeq">
                <p:childTnLst>
                  <p:par>
                    <p:cTn id="3677" fill="hold">
                      <p:stCondLst>
                        <p:cond delay="0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0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3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6" dur="5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0" dur="5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3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6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98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2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04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8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10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4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16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0" dur="5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2" dur="5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6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8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2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34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8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0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4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6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0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3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5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8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2" dur="5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64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8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0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4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6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0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2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6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8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2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94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8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0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4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6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0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2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6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8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21" dur="5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5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8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30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4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36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0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2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6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8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2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54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8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0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4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6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0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2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6" dur="5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8" dur="5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2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84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8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0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4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6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0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2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6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8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2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14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8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0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4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6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0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2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6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8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2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44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8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0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4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6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0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2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6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8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2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74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8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0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84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6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0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2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6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8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2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0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8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10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4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16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0" dur="500"/>
                                        <p:tgtEl>
                                          <p:spTgt spid="3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2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6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8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2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34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8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0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4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6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0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2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6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8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2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64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8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70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4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76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0" dur="500"/>
                                        <p:tgtEl>
                                          <p:spTgt spid="3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4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11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9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12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4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12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9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13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4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13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15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6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15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16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16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19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5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19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9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3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3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6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2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373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5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376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8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379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380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381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3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4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385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386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8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390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391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3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4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395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396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8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1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1" dur="indefinite" restart="never" nodeType="tmRoot">
          <p:childTnLst>
            <p:seq>
              <p:cTn id="4082" dur="indefinite" nodeType="mainSeq">
                <p:childTnLst>
                  <p:par>
                    <p:cTn id="4083" fill="hold">
                      <p:stCondLst>
                        <p:cond delay="0"/>
                      </p:stCondLst>
                      <p:childTnLst>
                        <p:par>
                          <p:cTn id="4084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6" dur="5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9" dur="5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9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95" dur="500"/>
                                        <p:tgtEl>
                                          <p:spTgt spid="3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99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2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5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8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10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4" dur="5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16" dur="5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0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22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6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28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2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34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8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40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4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46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0" dur="5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52" dur="5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6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58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2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5" dur="500"/>
                                        <p:tgtEl>
                                          <p:spTgt spid="3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7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70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4" dur="5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76" dur="500"/>
                                        <p:tgtEl>
                                          <p:spTgt spid="3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0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82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6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88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2" dur="5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94" dur="5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8" dur="500"/>
                                        <p:tgtEl>
                                          <p:spTgt spid="3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00" dur="500"/>
                                        <p:tgtEl>
                                          <p:spTgt spid="3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4" dur="5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06" dur="5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0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2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6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8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2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24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8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30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33" dur="5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7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0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42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6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48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2" dur="5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54" dur="5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4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8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60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4" dur="500"/>
                                        <p:tgtEl>
                                          <p:spTgt spid="3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66" dur="500"/>
                                        <p:tgtEl>
                                          <p:spTgt spid="3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0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2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6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8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2" dur="5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84" dur="5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8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90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4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96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00" dur="500"/>
                                        <p:tgtEl>
                                          <p:spTgt spid="3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02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06" dur="5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08" dur="500"/>
                                        <p:tgtEl>
                                          <p:spTgt spid="3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2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14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8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0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24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6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0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2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4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6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8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2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44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8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0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4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6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0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62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6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68" dur="5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2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74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8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0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84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6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0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92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6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98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2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04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8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10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14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16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0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22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6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28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2" dur="5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34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8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40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4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46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0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2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6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8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2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64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8" dur="500"/>
                                        <p:tgtEl>
                                          <p:spTgt spid="3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70" dur="500"/>
                                        <p:tgtEl>
                                          <p:spTgt spid="3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74" dur="5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76" dur="5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0" dur="500"/>
                                        <p:tgtEl>
                                          <p:spTgt spid="3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2" dur="500"/>
                                        <p:tgtEl>
                                          <p:spTgt spid="3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6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8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2" dur="500"/>
                                        <p:tgtEl>
                                          <p:spTgt spid="3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9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41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4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41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42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4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42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9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43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8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44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1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45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45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48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7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48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6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8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4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665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7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668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0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671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672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673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4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5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6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677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678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0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1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682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683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5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687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688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0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1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3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3" dur="indefinite" restart="never" nodeType="tmRoot">
          <p:childTnLst>
            <p:seq>
              <p:cTn id="4494" dur="indefinite" nodeType="mainSeq">
                <p:childTnLst>
                  <p:par>
                    <p:cTn id="4495" fill="hold">
                      <p:stCondLst>
                        <p:cond delay="0"/>
                      </p:stCondLst>
                      <p:childTnLst>
                        <p:par>
                          <p:cTn id="4496" fill="hold">
                            <p:stCondLst>
                              <p:cond delay="0"/>
                            </p:stCondLst>
                            <p:childTnLst>
                              <p:par>
                                <p:cTn id="449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98" dur="5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1" dur="500"/>
                                        <p:tgtEl>
                                          <p:spTgt spid="3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4" dur="500"/>
                                        <p:tgtEl>
                                          <p:spTgt spid="3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08" dur="500"/>
                                        <p:tgtEl>
                                          <p:spTgt spid="3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1" dur="5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4" dur="5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16" dur="5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0" dur="5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22" dur="5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6" dur="5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28" dur="5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2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34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8" dur="5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0" dur="5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4" dur="500"/>
                                        <p:tgtEl>
                                          <p:spTgt spid="3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6" dur="500"/>
                                        <p:tgtEl>
                                          <p:spTgt spid="3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0" dur="500"/>
                                        <p:tgtEl>
                                          <p:spTgt spid="3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52" dur="500"/>
                                        <p:tgtEl>
                                          <p:spTgt spid="3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6" dur="5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58" dur="5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2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64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8" dur="5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71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73" dur="5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76" dur="5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0" dur="5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2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6" dur="5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8" dur="5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2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94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8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0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4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6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0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12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18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24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4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8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0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4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34" dur="500"/>
                                        <p:tgtEl>
                                          <p:spTgt spid="3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6" dur="500"/>
                                        <p:tgtEl>
                                          <p:spTgt spid="3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9" dur="5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3" dur="500"/>
                                        <p:tgtEl>
                                          <p:spTgt spid="3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6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48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2" dur="5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54" dur="5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4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8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0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4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64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6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0" dur="500"/>
                                        <p:tgtEl>
                                          <p:spTgt spid="3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72" dur="500"/>
                                        <p:tgtEl>
                                          <p:spTgt spid="3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6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78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2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4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8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90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4" dur="500"/>
                                        <p:tgtEl>
                                          <p:spTgt spid="3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96" dur="500"/>
                                        <p:tgtEl>
                                          <p:spTgt spid="3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0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02" dur="500"/>
                                        <p:tgtEl>
                                          <p:spTgt spid="3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6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08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2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14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8" dur="5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20" dur="5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4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4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26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4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0" dur="5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32" dur="5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6" dur="5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38" dur="5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2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4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8" dur="500"/>
                                        <p:tgtEl>
                                          <p:spTgt spid="3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0" dur="500"/>
                                        <p:tgtEl>
                                          <p:spTgt spid="3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4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6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4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0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62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6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68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2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74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8" dur="5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0" dur="5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4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4" dur="500"/>
                                        <p:tgtEl>
                                          <p:spTgt spid="3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6" dur="500"/>
                                        <p:tgtEl>
                                          <p:spTgt spid="3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0" dur="5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92" dur="5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6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98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2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04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8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0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4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14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6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0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22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6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28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2" dur="500"/>
                                        <p:tgtEl>
                                          <p:spTgt spid="3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34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8" dur="500"/>
                                        <p:tgtEl>
                                          <p:spTgt spid="3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0" dur="500"/>
                                        <p:tgtEl>
                                          <p:spTgt spid="3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4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6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0" dur="500"/>
                                        <p:tgtEl>
                                          <p:spTgt spid="3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2" dur="500"/>
                                        <p:tgtEl>
                                          <p:spTgt spid="3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6" dur="5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8" dur="5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2" dur="5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64" dur="5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8" dur="500"/>
                                        <p:tgtEl>
                                          <p:spTgt spid="3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0" dur="500"/>
                                        <p:tgtEl>
                                          <p:spTgt spid="3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74" dur="500"/>
                                        <p:tgtEl>
                                          <p:spTgt spid="3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6" dur="500"/>
                                        <p:tgtEl>
                                          <p:spTgt spid="3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0" dur="5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82" dur="5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6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88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92" dur="500"/>
                                        <p:tgtEl>
                                          <p:spTgt spid="3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94" dur="500"/>
                                        <p:tgtEl>
                                          <p:spTgt spid="3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98" dur="500"/>
                                        <p:tgtEl>
                                          <p:spTgt spid="3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70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70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71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71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72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74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74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74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7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77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78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8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9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0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6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957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9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960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2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963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964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965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7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8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969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970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2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3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974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975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7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979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980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2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3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9" dur="indefinite" restart="never" nodeType="tmRoot">
          <p:childTnLst>
            <p:seq>
              <p:cTn id="4900" dur="indefinite" nodeType="mainSeq">
                <p:childTnLst>
                  <p:par>
                    <p:cTn id="4901" fill="hold">
                      <p:stCondLst>
                        <p:cond delay="0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04" dur="500"/>
                                        <p:tgtEl>
                                          <p:spTgt spid="3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07" dur="500"/>
                                        <p:tgtEl>
                                          <p:spTgt spid="3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10" dur="500"/>
                                        <p:tgtEl>
                                          <p:spTgt spid="3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4" dur="500"/>
                                        <p:tgtEl>
                                          <p:spTgt spid="3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7" dur="500"/>
                                        <p:tgtEl>
                                          <p:spTgt spid="3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0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2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6" dur="5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8" dur="5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2" dur="500"/>
                                        <p:tgtEl>
                                          <p:spTgt spid="3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34" dur="500"/>
                                        <p:tgtEl>
                                          <p:spTgt spid="3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8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40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4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46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0" dur="500"/>
                                        <p:tgtEl>
                                          <p:spTgt spid="3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52" dur="500"/>
                                        <p:tgtEl>
                                          <p:spTgt spid="3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6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58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2" dur="500"/>
                                        <p:tgtEl>
                                          <p:spTgt spid="3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64" dur="500"/>
                                        <p:tgtEl>
                                          <p:spTgt spid="3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8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0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4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7" dur="500"/>
                                        <p:tgtEl>
                                          <p:spTgt spid="3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9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2" dur="500"/>
                                        <p:tgtEl>
                                          <p:spTgt spid="3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6" dur="500"/>
                                        <p:tgtEl>
                                          <p:spTgt spid="3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8" dur="500"/>
                                        <p:tgtEl>
                                          <p:spTgt spid="3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2" dur="5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94" dur="5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8" dur="5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0" dur="5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4" dur="500"/>
                                        <p:tgtEl>
                                          <p:spTgt spid="3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6" dur="500"/>
                                        <p:tgtEl>
                                          <p:spTgt spid="3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0" dur="500"/>
                                        <p:tgtEl>
                                          <p:spTgt spid="3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12" dur="500"/>
                                        <p:tgtEl>
                                          <p:spTgt spid="3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6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18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2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24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8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0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34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6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0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42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45" dur="500"/>
                                        <p:tgtEl>
                                          <p:spTgt spid="3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9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2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54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8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0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64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6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0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2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6" dur="5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8" dur="5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2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84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8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90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94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96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00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2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06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8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2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14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8" dur="500"/>
                                        <p:tgtEl>
                                          <p:spTgt spid="3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0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24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6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0" dur="500"/>
                                        <p:tgtEl>
                                          <p:spTgt spid="3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32" dur="500"/>
                                        <p:tgtEl>
                                          <p:spTgt spid="3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6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38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2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44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8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0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54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6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0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2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6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8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2" dur="5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74" dur="5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8" dur="500"/>
                                        <p:tgtEl>
                                          <p:spTgt spid="3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0" dur="500"/>
                                        <p:tgtEl>
                                          <p:spTgt spid="3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84" dur="500"/>
                                        <p:tgtEl>
                                          <p:spTgt spid="3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6" dur="500"/>
                                        <p:tgtEl>
                                          <p:spTgt spid="3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0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92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6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98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5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2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04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5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8" dur="5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10" dur="5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5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4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16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5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0" dur="5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2" dur="5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5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6" dur="500"/>
                                        <p:tgtEl>
                                          <p:spTgt spid="3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8" dur="500"/>
                                        <p:tgtEl>
                                          <p:spTgt spid="3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5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2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34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5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8" dur="500"/>
                                        <p:tgtEl>
                                          <p:spTgt spid="3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40" dur="500"/>
                                        <p:tgtEl>
                                          <p:spTgt spid="3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44" dur="5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46" dur="500"/>
                                        <p:tgtEl>
                                          <p:spTgt spid="3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50" dur="500"/>
                                        <p:tgtEl>
                                          <p:spTgt spid="3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52" dur="500"/>
                                        <p:tgtEl>
                                          <p:spTgt spid="3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5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56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58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5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2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64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5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8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70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5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4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76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5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0" dur="500"/>
                                        <p:tgtEl>
                                          <p:spTgt spid="3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2" dur="500"/>
                                        <p:tgtEl>
                                          <p:spTgt spid="3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5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6" dur="500"/>
                                        <p:tgtEl>
                                          <p:spTgt spid="3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8" dur="500"/>
                                        <p:tgtEl>
                                          <p:spTgt spid="3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5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2" dur="500"/>
                                        <p:tgtEl>
                                          <p:spTgt spid="3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94" dur="500"/>
                                        <p:tgtEl>
                                          <p:spTgt spid="3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5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8" dur="500"/>
                                        <p:tgtEl>
                                          <p:spTgt spid="3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00" dur="500"/>
                                        <p:tgtEl>
                                          <p:spTgt spid="3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5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4" dur="500"/>
                                        <p:tgtEl>
                                          <p:spTgt spid="3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3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99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8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99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3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00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8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00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3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01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2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03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5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03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03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6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06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1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07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7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7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2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2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8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249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1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252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4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255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256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257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8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9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0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261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262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4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266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267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9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0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271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272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4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5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7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5" dur="indefinite" restart="never" nodeType="tmRoot">
          <p:childTnLst>
            <p:seq>
              <p:cTn id="5306" dur="indefinite" nodeType="mainSeq">
                <p:childTnLst>
                  <p:par>
                    <p:cTn id="5307" fill="hold">
                      <p:stCondLst>
                        <p:cond delay="0"/>
                      </p:stCondLst>
                      <p:childTnLst>
                        <p:par>
                          <p:cTn id="5308" fill="hold">
                            <p:stCondLst>
                              <p:cond delay="0"/>
                            </p:stCondLst>
                            <p:childTnLst>
                              <p:par>
                                <p:cTn id="530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0" dur="500"/>
                                        <p:tgtEl>
                                          <p:spTgt spid="4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3" dur="500"/>
                                        <p:tgtEl>
                                          <p:spTgt spid="4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6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0" dur="500"/>
                                        <p:tgtEl>
                                          <p:spTgt spid="4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3" dur="500"/>
                                        <p:tgtEl>
                                          <p:spTgt spid="4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6" dur="5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28" dur="5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2" dur="5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34" dur="5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8" dur="5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0" dur="5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44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6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0" dur="500"/>
                                        <p:tgtEl>
                                          <p:spTgt spid="4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52" dur="500"/>
                                        <p:tgtEl>
                                          <p:spTgt spid="4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6" dur="500"/>
                                        <p:tgtEl>
                                          <p:spTgt spid="4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58" dur="500"/>
                                        <p:tgtEl>
                                          <p:spTgt spid="4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2" dur="500"/>
                                        <p:tgtEl>
                                          <p:spTgt spid="4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64" dur="500"/>
                                        <p:tgtEl>
                                          <p:spTgt spid="4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8" dur="500"/>
                                        <p:tgtEl>
                                          <p:spTgt spid="4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70" dur="500"/>
                                        <p:tgtEl>
                                          <p:spTgt spid="4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74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76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0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3" dur="500"/>
                                        <p:tgtEl>
                                          <p:spTgt spid="4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85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88" dur="500"/>
                                        <p:tgtEl>
                                          <p:spTgt spid="4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2" dur="500"/>
                                        <p:tgtEl>
                                          <p:spTgt spid="4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94" dur="500"/>
                                        <p:tgtEl>
                                          <p:spTgt spid="4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8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0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4" dur="500"/>
                                        <p:tgtEl>
                                          <p:spTgt spid="4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6" dur="500"/>
                                        <p:tgtEl>
                                          <p:spTgt spid="4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0" dur="5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12" dur="5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6" dur="5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18" dur="5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2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24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8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30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34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36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0" dur="500"/>
                                        <p:tgtEl>
                                          <p:spTgt spid="4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42" dur="500"/>
                                        <p:tgtEl>
                                          <p:spTgt spid="4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6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48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51" dur="500"/>
                                        <p:tgtEl>
                                          <p:spTgt spid="4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5" dur="500"/>
                                        <p:tgtEl>
                                          <p:spTgt spid="4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8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0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64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6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0" dur="500"/>
                                        <p:tgtEl>
                                          <p:spTgt spid="4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72" dur="500"/>
                                        <p:tgtEl>
                                          <p:spTgt spid="4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6" dur="5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78" dur="5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2" dur="5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84" dur="5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8" dur="500"/>
                                        <p:tgtEl>
                                          <p:spTgt spid="4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90" dur="500"/>
                                        <p:tgtEl>
                                          <p:spTgt spid="4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94" dur="500"/>
                                        <p:tgtEl>
                                          <p:spTgt spid="4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96" dur="500"/>
                                        <p:tgtEl>
                                          <p:spTgt spid="4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0" dur="500"/>
                                        <p:tgtEl>
                                          <p:spTgt spid="4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02" dur="500"/>
                                        <p:tgtEl>
                                          <p:spTgt spid="4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6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08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2" dur="500"/>
                                        <p:tgtEl>
                                          <p:spTgt spid="4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14" dur="500"/>
                                        <p:tgtEl>
                                          <p:spTgt spid="4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8" dur="500"/>
                                        <p:tgtEl>
                                          <p:spTgt spid="4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0" dur="500"/>
                                        <p:tgtEl>
                                          <p:spTgt spid="4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4" dur="500"/>
                                        <p:tgtEl>
                                          <p:spTgt spid="4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6" dur="500"/>
                                        <p:tgtEl>
                                          <p:spTgt spid="4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0" dur="5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2" dur="5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6" dur="5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8" dur="5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2" dur="5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44" dur="5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8" dur="500"/>
                                        <p:tgtEl>
                                          <p:spTgt spid="4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50" dur="500"/>
                                        <p:tgtEl>
                                          <p:spTgt spid="4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54" dur="500"/>
                                        <p:tgtEl>
                                          <p:spTgt spid="4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56" dur="500"/>
                                        <p:tgtEl>
                                          <p:spTgt spid="4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0" dur="500"/>
                                        <p:tgtEl>
                                          <p:spTgt spid="4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62" dur="500"/>
                                        <p:tgtEl>
                                          <p:spTgt spid="4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6" dur="5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68" dur="5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2" dur="500"/>
                                        <p:tgtEl>
                                          <p:spTgt spid="4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74" dur="500"/>
                                        <p:tgtEl>
                                          <p:spTgt spid="4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8" dur="5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0" dur="5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84" dur="5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6" dur="500"/>
                                        <p:tgtEl>
                                          <p:spTgt spid="4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0" dur="500"/>
                                        <p:tgtEl>
                                          <p:spTgt spid="4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92" dur="500"/>
                                        <p:tgtEl>
                                          <p:spTgt spid="4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6" dur="500"/>
                                        <p:tgtEl>
                                          <p:spTgt spid="4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98" dur="500"/>
                                        <p:tgtEl>
                                          <p:spTgt spid="4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5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02" dur="500"/>
                                        <p:tgtEl>
                                          <p:spTgt spid="4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04" dur="500"/>
                                        <p:tgtEl>
                                          <p:spTgt spid="4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5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08" dur="500"/>
                                        <p:tgtEl>
                                          <p:spTgt spid="4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10" dur="500"/>
                                        <p:tgtEl>
                                          <p:spTgt spid="4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5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14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16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5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0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22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5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6" dur="500"/>
                                        <p:tgtEl>
                                          <p:spTgt spid="4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28" dur="500"/>
                                        <p:tgtEl>
                                          <p:spTgt spid="4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5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2" dur="5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34" dur="5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5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8" dur="500"/>
                                        <p:tgtEl>
                                          <p:spTgt spid="4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0" dur="500"/>
                                        <p:tgtEl>
                                          <p:spTgt spid="4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5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44" dur="500"/>
                                        <p:tgtEl>
                                          <p:spTgt spid="4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6" dur="5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0" dur="500"/>
                                        <p:tgtEl>
                                          <p:spTgt spid="4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52" dur="500"/>
                                        <p:tgtEl>
                                          <p:spTgt spid="4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6" dur="500"/>
                                        <p:tgtEl>
                                          <p:spTgt spid="4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58" dur="500"/>
                                        <p:tgtEl>
                                          <p:spTgt spid="4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5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2" dur="500"/>
                                        <p:tgtEl>
                                          <p:spTgt spid="4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64" dur="500"/>
                                        <p:tgtEl>
                                          <p:spTgt spid="4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5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8" dur="500"/>
                                        <p:tgtEl>
                                          <p:spTgt spid="4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70" dur="500"/>
                                        <p:tgtEl>
                                          <p:spTgt spid="4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4" dur="5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76" dur="5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5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0" dur="500"/>
                                        <p:tgtEl>
                                          <p:spTgt spid="4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2" dur="500"/>
                                        <p:tgtEl>
                                          <p:spTgt spid="4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5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6" dur="500"/>
                                        <p:tgtEl>
                                          <p:spTgt spid="4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8" dur="500"/>
                                        <p:tgtEl>
                                          <p:spTgt spid="4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5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2" dur="500"/>
                                        <p:tgtEl>
                                          <p:spTgt spid="4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94" dur="500"/>
                                        <p:tgtEl>
                                          <p:spTgt spid="4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5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8" dur="500"/>
                                        <p:tgtEl>
                                          <p:spTgt spid="4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0" dur="500"/>
                                        <p:tgtEl>
                                          <p:spTgt spid="4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5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04" dur="500"/>
                                        <p:tgtEl>
                                          <p:spTgt spid="4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6" dur="500"/>
                                        <p:tgtEl>
                                          <p:spTgt spid="4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5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0" dur="500"/>
                                        <p:tgtEl>
                                          <p:spTgt spid="4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5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28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29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5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29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0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30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5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30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2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4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32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7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32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33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5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36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3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36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6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6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53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4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0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541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3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544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6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547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548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549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1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2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553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554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6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7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558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559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1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2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563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564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5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6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7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9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1" dur="indefinite" restart="never" nodeType="tmRoot">
          <p:childTnLst>
            <p:seq>
              <p:cTn id="5712" dur="indefinite" nodeType="mainSeq">
                <p:childTnLst>
                  <p:par>
                    <p:cTn id="5713" fill="hold">
                      <p:stCondLst>
                        <p:cond delay="0"/>
                      </p:stCondLst>
                      <p:childTnLst>
                        <p:par>
                          <p:cTn id="5714" fill="hold">
                            <p:stCondLst>
                              <p:cond delay="0"/>
                            </p:stCondLst>
                            <p:childTnLst>
                              <p:par>
                                <p:cTn id="571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16" dur="500"/>
                                        <p:tgtEl>
                                          <p:spTgt spid="4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19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22" dur="500"/>
                                        <p:tgtEl>
                                          <p:spTgt spid="4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6" dur="500"/>
                                        <p:tgtEl>
                                          <p:spTgt spid="4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9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32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4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38" dur="500"/>
                                        <p:tgtEl>
                                          <p:spTgt spid="4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40" dur="500"/>
                                        <p:tgtEl>
                                          <p:spTgt spid="4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44" dur="500"/>
                                        <p:tgtEl>
                                          <p:spTgt spid="4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46" dur="500"/>
                                        <p:tgtEl>
                                          <p:spTgt spid="4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0" dur="500"/>
                                        <p:tgtEl>
                                          <p:spTgt spid="4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52" dur="500"/>
                                        <p:tgtEl>
                                          <p:spTgt spid="4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6" dur="5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58" dur="5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2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64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8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70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4" dur="500"/>
                                        <p:tgtEl>
                                          <p:spTgt spid="4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76" dur="500"/>
                                        <p:tgtEl>
                                          <p:spTgt spid="4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0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82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6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9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1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4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98" dur="5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0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4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6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0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12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6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18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2" dur="500"/>
                                        <p:tgtEl>
                                          <p:spTgt spid="4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24" dur="500"/>
                                        <p:tgtEl>
                                          <p:spTgt spid="4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8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0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34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6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0" dur="500"/>
                                        <p:tgtEl>
                                          <p:spTgt spid="4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42" dur="500"/>
                                        <p:tgtEl>
                                          <p:spTgt spid="4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6" dur="500"/>
                                        <p:tgtEl>
                                          <p:spTgt spid="4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48" dur="500"/>
                                        <p:tgtEl>
                                          <p:spTgt spid="4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52" dur="500"/>
                                        <p:tgtEl>
                                          <p:spTgt spid="4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54" dur="500"/>
                                        <p:tgtEl>
                                          <p:spTgt spid="4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57" dur="5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1" dur="500"/>
                                        <p:tgtEl>
                                          <p:spTgt spid="4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4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66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0" dur="500"/>
                                        <p:tgtEl>
                                          <p:spTgt spid="4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72" dur="500"/>
                                        <p:tgtEl>
                                          <p:spTgt spid="4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6" dur="500"/>
                                        <p:tgtEl>
                                          <p:spTgt spid="4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78" dur="500"/>
                                        <p:tgtEl>
                                          <p:spTgt spid="4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82" dur="500"/>
                                        <p:tgtEl>
                                          <p:spTgt spid="4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84" dur="500"/>
                                        <p:tgtEl>
                                          <p:spTgt spid="4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88" dur="500"/>
                                        <p:tgtEl>
                                          <p:spTgt spid="4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90" dur="500"/>
                                        <p:tgtEl>
                                          <p:spTgt spid="4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4" dur="500"/>
                                        <p:tgtEl>
                                          <p:spTgt spid="4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96" dur="500"/>
                                        <p:tgtEl>
                                          <p:spTgt spid="4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0" dur="5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02" dur="5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6" dur="500"/>
                                        <p:tgtEl>
                                          <p:spTgt spid="4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08" dur="500"/>
                                        <p:tgtEl>
                                          <p:spTgt spid="4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12" dur="5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14" dur="5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18" dur="500"/>
                                        <p:tgtEl>
                                          <p:spTgt spid="4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20" dur="500"/>
                                        <p:tgtEl>
                                          <p:spTgt spid="4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24" dur="500"/>
                                        <p:tgtEl>
                                          <p:spTgt spid="4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26" dur="500"/>
                                        <p:tgtEl>
                                          <p:spTgt spid="4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0" dur="500"/>
                                        <p:tgtEl>
                                          <p:spTgt spid="4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2" dur="500"/>
                                        <p:tgtEl>
                                          <p:spTgt spid="4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6" dur="500"/>
                                        <p:tgtEl>
                                          <p:spTgt spid="4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8" dur="500"/>
                                        <p:tgtEl>
                                          <p:spTgt spid="4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2" dur="500"/>
                                        <p:tgtEl>
                                          <p:spTgt spid="4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44" dur="500"/>
                                        <p:tgtEl>
                                          <p:spTgt spid="4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8" dur="500"/>
                                        <p:tgtEl>
                                          <p:spTgt spid="4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50" dur="500"/>
                                        <p:tgtEl>
                                          <p:spTgt spid="4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54" dur="500"/>
                                        <p:tgtEl>
                                          <p:spTgt spid="4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56" dur="500"/>
                                        <p:tgtEl>
                                          <p:spTgt spid="4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0" dur="500"/>
                                        <p:tgtEl>
                                          <p:spTgt spid="4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2" dur="500"/>
                                        <p:tgtEl>
                                          <p:spTgt spid="4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6" dur="500"/>
                                        <p:tgtEl>
                                          <p:spTgt spid="4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8" dur="500"/>
                                        <p:tgtEl>
                                          <p:spTgt spid="4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2" dur="500"/>
                                        <p:tgtEl>
                                          <p:spTgt spid="4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74" dur="500"/>
                                        <p:tgtEl>
                                          <p:spTgt spid="4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8" dur="500"/>
                                        <p:tgtEl>
                                          <p:spTgt spid="4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80" dur="500"/>
                                        <p:tgtEl>
                                          <p:spTgt spid="4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4" dur="500"/>
                                        <p:tgtEl>
                                          <p:spTgt spid="4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86" dur="500"/>
                                        <p:tgtEl>
                                          <p:spTgt spid="4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90" dur="500"/>
                                        <p:tgtEl>
                                          <p:spTgt spid="4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2" dur="500"/>
                                        <p:tgtEl>
                                          <p:spTgt spid="4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96" dur="500"/>
                                        <p:tgtEl>
                                          <p:spTgt spid="4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8" dur="500"/>
                                        <p:tgtEl>
                                          <p:spTgt spid="4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2" dur="500"/>
                                        <p:tgtEl>
                                          <p:spTgt spid="4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04" dur="500"/>
                                        <p:tgtEl>
                                          <p:spTgt spid="4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8" dur="500"/>
                                        <p:tgtEl>
                                          <p:spTgt spid="4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10" dur="500"/>
                                        <p:tgtEl>
                                          <p:spTgt spid="4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14" dur="500"/>
                                        <p:tgtEl>
                                          <p:spTgt spid="4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16" dur="500"/>
                                        <p:tgtEl>
                                          <p:spTgt spid="4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0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22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6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2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2" dur="500"/>
                                        <p:tgtEl>
                                          <p:spTgt spid="4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34" dur="500"/>
                                        <p:tgtEl>
                                          <p:spTgt spid="4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8" dur="500"/>
                                        <p:tgtEl>
                                          <p:spTgt spid="4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0" dur="500"/>
                                        <p:tgtEl>
                                          <p:spTgt spid="4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44" dur="5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6" dur="5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0" dur="5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52" dur="500"/>
                                        <p:tgtEl>
                                          <p:spTgt spid="4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6" dur="500"/>
                                        <p:tgtEl>
                                          <p:spTgt spid="4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58" dur="5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2" dur="500"/>
                                        <p:tgtEl>
                                          <p:spTgt spid="4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64" dur="500"/>
                                        <p:tgtEl>
                                          <p:spTgt spid="4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8" dur="500"/>
                                        <p:tgtEl>
                                          <p:spTgt spid="4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70" dur="500"/>
                                        <p:tgtEl>
                                          <p:spTgt spid="4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74" dur="5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76" dur="5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0" dur="5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82" dur="5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6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88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2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94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8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00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4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06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0" dur="500"/>
                                        <p:tgtEl>
                                          <p:spTgt spid="4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12" dur="500"/>
                                        <p:tgtEl>
                                          <p:spTgt spid="4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6" dur="500"/>
                                        <p:tgtEl>
                                          <p:spTgt spid="4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7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57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2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58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7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58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2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59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7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59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1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61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62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62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5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65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65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75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76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8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6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2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833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5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836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8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839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840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841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2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3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4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845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846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7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8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9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850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851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2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3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4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855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856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7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8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9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1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7" dur="indefinite" restart="never" nodeType="tmRoot">
          <p:childTnLst>
            <p:seq>
              <p:cTn id="6118" dur="indefinite" nodeType="mainSeq">
                <p:childTnLst>
                  <p:par>
                    <p:cTn id="6119" fill="hold">
                      <p:stCondLst>
                        <p:cond delay="0"/>
                      </p:stCondLst>
                      <p:childTnLst>
                        <p:par>
                          <p:cTn id="6120" fill="hold">
                            <p:stCondLst>
                              <p:cond delay="0"/>
                            </p:stCondLst>
                            <p:childTnLst>
                              <p:par>
                                <p:cTn id="612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2" dur="500"/>
                                        <p:tgtEl>
                                          <p:spTgt spid="4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5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8" dur="500"/>
                                        <p:tgtEl>
                                          <p:spTgt spid="4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2" dur="500"/>
                                        <p:tgtEl>
                                          <p:spTgt spid="4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5" dur="500"/>
                                        <p:tgtEl>
                                          <p:spTgt spid="4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8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4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4" dur="500"/>
                                        <p:tgtEl>
                                          <p:spTgt spid="4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46" dur="500"/>
                                        <p:tgtEl>
                                          <p:spTgt spid="4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0" dur="500"/>
                                        <p:tgtEl>
                                          <p:spTgt spid="4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2" dur="500"/>
                                        <p:tgtEl>
                                          <p:spTgt spid="4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6" dur="5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8" dur="5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2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64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8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70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74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76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80" dur="5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2" dur="5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86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8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2" dur="500"/>
                                        <p:tgtEl>
                                          <p:spTgt spid="4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5" dur="500"/>
                                        <p:tgtEl>
                                          <p:spTgt spid="4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97" dur="500"/>
                                        <p:tgtEl>
                                          <p:spTgt spid="4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00" dur="500"/>
                                        <p:tgtEl>
                                          <p:spTgt spid="4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4" dur="500"/>
                                        <p:tgtEl>
                                          <p:spTgt spid="4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06" dur="500"/>
                                        <p:tgtEl>
                                          <p:spTgt spid="4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10" dur="500"/>
                                        <p:tgtEl>
                                          <p:spTgt spid="4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12" dur="500"/>
                                        <p:tgtEl>
                                          <p:spTgt spid="4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16" dur="500"/>
                                        <p:tgtEl>
                                          <p:spTgt spid="4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18" dur="500"/>
                                        <p:tgtEl>
                                          <p:spTgt spid="4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2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24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8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30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4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36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6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40" dur="5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2" dur="5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46" dur="5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8" dur="5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2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54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8" dur="500"/>
                                        <p:tgtEl>
                                          <p:spTgt spid="4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60" dur="500"/>
                                        <p:tgtEl>
                                          <p:spTgt spid="4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63" dur="500"/>
                                        <p:tgtEl>
                                          <p:spTgt spid="4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67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0" dur="500"/>
                                        <p:tgtEl>
                                          <p:spTgt spid="4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2" dur="500"/>
                                        <p:tgtEl>
                                          <p:spTgt spid="4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6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6" dur="500"/>
                                        <p:tgtEl>
                                          <p:spTgt spid="4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8" dur="500"/>
                                        <p:tgtEl>
                                          <p:spTgt spid="4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2" dur="5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84" dur="5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8" dur="5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90" dur="5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94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96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0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2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6" dur="500"/>
                                        <p:tgtEl>
                                          <p:spTgt spid="4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8" dur="500"/>
                                        <p:tgtEl>
                                          <p:spTgt spid="4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2" dur="500"/>
                                        <p:tgtEl>
                                          <p:spTgt spid="4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14" dur="500"/>
                                        <p:tgtEl>
                                          <p:spTgt spid="4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8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20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24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26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0" dur="500"/>
                                        <p:tgtEl>
                                          <p:spTgt spid="4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2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6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8" dur="500"/>
                                        <p:tgtEl>
                                          <p:spTgt spid="4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2" dur="500"/>
                                        <p:tgtEl>
                                          <p:spTgt spid="4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44" dur="500"/>
                                        <p:tgtEl>
                                          <p:spTgt spid="4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8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50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54" dur="500"/>
                                        <p:tgtEl>
                                          <p:spTgt spid="4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56" dur="500"/>
                                        <p:tgtEl>
                                          <p:spTgt spid="4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60" dur="500"/>
                                        <p:tgtEl>
                                          <p:spTgt spid="4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2" dur="500"/>
                                        <p:tgtEl>
                                          <p:spTgt spid="4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66" dur="500"/>
                                        <p:tgtEl>
                                          <p:spTgt spid="4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8" dur="500"/>
                                        <p:tgtEl>
                                          <p:spTgt spid="4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2" dur="500"/>
                                        <p:tgtEl>
                                          <p:spTgt spid="4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74" dur="500"/>
                                        <p:tgtEl>
                                          <p:spTgt spid="4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8" dur="500"/>
                                        <p:tgtEl>
                                          <p:spTgt spid="4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80" dur="500"/>
                                        <p:tgtEl>
                                          <p:spTgt spid="4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84" dur="500"/>
                                        <p:tgtEl>
                                          <p:spTgt spid="4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86" dur="500"/>
                                        <p:tgtEl>
                                          <p:spTgt spid="4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90" dur="5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2" dur="5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96" dur="500"/>
                                        <p:tgtEl>
                                          <p:spTgt spid="4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8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2" dur="500"/>
                                        <p:tgtEl>
                                          <p:spTgt spid="4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04" dur="500"/>
                                        <p:tgtEl>
                                          <p:spTgt spid="4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8" dur="500"/>
                                        <p:tgtEl>
                                          <p:spTgt spid="4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0" dur="500"/>
                                        <p:tgtEl>
                                          <p:spTgt spid="4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14" dur="500"/>
                                        <p:tgtEl>
                                          <p:spTgt spid="4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6" dur="500"/>
                                        <p:tgtEl>
                                          <p:spTgt spid="4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0" dur="500"/>
                                        <p:tgtEl>
                                          <p:spTgt spid="4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2" dur="500"/>
                                        <p:tgtEl>
                                          <p:spTgt spid="4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6" dur="500"/>
                                        <p:tgtEl>
                                          <p:spTgt spid="4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8" dur="500"/>
                                        <p:tgtEl>
                                          <p:spTgt spid="4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2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34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8" dur="5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40" dur="5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44" dur="500"/>
                                        <p:tgtEl>
                                          <p:spTgt spid="4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46" dur="500"/>
                                        <p:tgtEl>
                                          <p:spTgt spid="4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0" dur="5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52" dur="5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6" dur="5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58" dur="500"/>
                                        <p:tgtEl>
                                          <p:spTgt spid="4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2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64" dur="5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8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70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74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76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80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2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86" dur="500"/>
                                        <p:tgtEl>
                                          <p:spTgt spid="4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8" dur="500"/>
                                        <p:tgtEl>
                                          <p:spTgt spid="4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2" dur="5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94" dur="5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8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0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04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6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0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12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6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18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22" dur="500"/>
                                        <p:tgtEl>
                                          <p:spTgt spid="4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9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87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4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87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9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88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4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88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9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89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0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8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90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1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91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91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94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7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94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8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05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05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1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8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4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125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7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128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0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131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132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133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4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5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6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137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138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9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0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1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142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143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5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6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147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148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0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1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3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3" dur="indefinite" restart="never" nodeType="tmRoot">
          <p:childTnLst>
            <p:seq>
              <p:cTn id="6524" dur="indefinite" nodeType="mainSeq">
                <p:childTnLst>
                  <p:par>
                    <p:cTn id="6525" fill="hold">
                      <p:stCondLst>
                        <p:cond delay="0"/>
                      </p:stCondLst>
                      <p:childTnLst>
                        <p:par>
                          <p:cTn id="6526" fill="hold">
                            <p:stCondLst>
                              <p:cond delay="0"/>
                            </p:stCondLst>
                            <p:childTnLst>
                              <p:par>
                                <p:cTn id="652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28" dur="500"/>
                                        <p:tgtEl>
                                          <p:spTgt spid="4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31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34" dur="500"/>
                                        <p:tgtEl>
                                          <p:spTgt spid="4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38" dur="500"/>
                                        <p:tgtEl>
                                          <p:spTgt spid="4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1" dur="5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4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46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50" dur="500"/>
                                        <p:tgtEl>
                                          <p:spTgt spid="4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2" dur="500"/>
                                        <p:tgtEl>
                                          <p:spTgt spid="4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56" dur="500"/>
                                        <p:tgtEl>
                                          <p:spTgt spid="4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8" dur="500"/>
                                        <p:tgtEl>
                                          <p:spTgt spid="4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2" dur="500"/>
                                        <p:tgtEl>
                                          <p:spTgt spid="4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64" dur="500"/>
                                        <p:tgtEl>
                                          <p:spTgt spid="4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8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70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4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76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0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2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6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8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2" dur="5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94" dur="5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8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01" dur="5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3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6" dur="5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0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12" dur="5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6" dur="500"/>
                                        <p:tgtEl>
                                          <p:spTgt spid="4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18" dur="500"/>
                                        <p:tgtEl>
                                          <p:spTgt spid="4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2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24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8" dur="5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30" dur="5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34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36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0" dur="500"/>
                                        <p:tgtEl>
                                          <p:spTgt spid="4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2" dur="500"/>
                                        <p:tgtEl>
                                          <p:spTgt spid="4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6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6" dur="500"/>
                                        <p:tgtEl>
                                          <p:spTgt spid="4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8" dur="500"/>
                                        <p:tgtEl>
                                          <p:spTgt spid="4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2" dur="500"/>
                                        <p:tgtEl>
                                          <p:spTgt spid="4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54" dur="500"/>
                                        <p:tgtEl>
                                          <p:spTgt spid="4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8" dur="500"/>
                                        <p:tgtEl>
                                          <p:spTgt spid="4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0" dur="500"/>
                                        <p:tgtEl>
                                          <p:spTgt spid="4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64" dur="500"/>
                                        <p:tgtEl>
                                          <p:spTgt spid="4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6" dur="500"/>
                                        <p:tgtEl>
                                          <p:spTgt spid="4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9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3" dur="500"/>
                                        <p:tgtEl>
                                          <p:spTgt spid="4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6" dur="5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78" dur="5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6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82" dur="500"/>
                                        <p:tgtEl>
                                          <p:spTgt spid="4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84" dur="500"/>
                                        <p:tgtEl>
                                          <p:spTgt spid="4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88" dur="500"/>
                                        <p:tgtEl>
                                          <p:spTgt spid="4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90" dur="500"/>
                                        <p:tgtEl>
                                          <p:spTgt spid="4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94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96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0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2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6" dur="500"/>
                                        <p:tgtEl>
                                          <p:spTgt spid="5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8" dur="500"/>
                                        <p:tgtEl>
                                          <p:spTgt spid="5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2" dur="500"/>
                                        <p:tgtEl>
                                          <p:spTgt spid="5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14" dur="500"/>
                                        <p:tgtEl>
                                          <p:spTgt spid="5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8" dur="500"/>
                                        <p:tgtEl>
                                          <p:spTgt spid="5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0" dur="500"/>
                                        <p:tgtEl>
                                          <p:spTgt spid="5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24" dur="500"/>
                                        <p:tgtEl>
                                          <p:spTgt spid="5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6" dur="500"/>
                                        <p:tgtEl>
                                          <p:spTgt spid="5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0" dur="500"/>
                                        <p:tgtEl>
                                          <p:spTgt spid="5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32" dur="500"/>
                                        <p:tgtEl>
                                          <p:spTgt spid="4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6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38" dur="500"/>
                                        <p:tgtEl>
                                          <p:spTgt spid="5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2" dur="500"/>
                                        <p:tgtEl>
                                          <p:spTgt spid="5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44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8" dur="500"/>
                                        <p:tgtEl>
                                          <p:spTgt spid="5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50" dur="500"/>
                                        <p:tgtEl>
                                          <p:spTgt spid="5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54" dur="500"/>
                                        <p:tgtEl>
                                          <p:spTgt spid="5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56" dur="500"/>
                                        <p:tgtEl>
                                          <p:spTgt spid="5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0" dur="500"/>
                                        <p:tgtEl>
                                          <p:spTgt spid="5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2" dur="500"/>
                                        <p:tgtEl>
                                          <p:spTgt spid="5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6" dur="500"/>
                                        <p:tgtEl>
                                          <p:spTgt spid="5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8" dur="500"/>
                                        <p:tgtEl>
                                          <p:spTgt spid="5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2" dur="500"/>
                                        <p:tgtEl>
                                          <p:spTgt spid="5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74" dur="500"/>
                                        <p:tgtEl>
                                          <p:spTgt spid="5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8" dur="500"/>
                                        <p:tgtEl>
                                          <p:spTgt spid="5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0" dur="500"/>
                                        <p:tgtEl>
                                          <p:spTgt spid="5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84" dur="500"/>
                                        <p:tgtEl>
                                          <p:spTgt spid="5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6" dur="500"/>
                                        <p:tgtEl>
                                          <p:spTgt spid="5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0" dur="500"/>
                                        <p:tgtEl>
                                          <p:spTgt spid="5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92" dur="500"/>
                                        <p:tgtEl>
                                          <p:spTgt spid="5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6" dur="500"/>
                                        <p:tgtEl>
                                          <p:spTgt spid="5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98" dur="500"/>
                                        <p:tgtEl>
                                          <p:spTgt spid="5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2" dur="500"/>
                                        <p:tgtEl>
                                          <p:spTgt spid="5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04" dur="500"/>
                                        <p:tgtEl>
                                          <p:spTgt spid="5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8" dur="500"/>
                                        <p:tgtEl>
                                          <p:spTgt spid="5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10" dur="500"/>
                                        <p:tgtEl>
                                          <p:spTgt spid="5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14" dur="5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16" dur="5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0" dur="500"/>
                                        <p:tgtEl>
                                          <p:spTgt spid="5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2" dur="500"/>
                                        <p:tgtEl>
                                          <p:spTgt spid="5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6" dur="500"/>
                                        <p:tgtEl>
                                          <p:spTgt spid="5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8" dur="500"/>
                                        <p:tgtEl>
                                          <p:spTgt spid="5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2" dur="5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34" dur="5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8" dur="50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0" dur="50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44" dur="500"/>
                                        <p:tgtEl>
                                          <p:spTgt spid="5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6" dur="500"/>
                                        <p:tgtEl>
                                          <p:spTgt spid="5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0" dur="500"/>
                                        <p:tgtEl>
                                          <p:spTgt spid="5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52" dur="500"/>
                                        <p:tgtEl>
                                          <p:spTgt spid="5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6" dur="500"/>
                                        <p:tgtEl>
                                          <p:spTgt spid="5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58" dur="500"/>
                                        <p:tgtEl>
                                          <p:spTgt spid="5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2" dur="500"/>
                                        <p:tgtEl>
                                          <p:spTgt spid="5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64" dur="500"/>
                                        <p:tgtEl>
                                          <p:spTgt spid="5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8" dur="500"/>
                                        <p:tgtEl>
                                          <p:spTgt spid="5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0" dur="500"/>
                                        <p:tgtEl>
                                          <p:spTgt spid="5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74" dur="500"/>
                                        <p:tgtEl>
                                          <p:spTgt spid="5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6" dur="500"/>
                                        <p:tgtEl>
                                          <p:spTgt spid="5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0" dur="500"/>
                                        <p:tgtEl>
                                          <p:spTgt spid="5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82" dur="500"/>
                                        <p:tgtEl>
                                          <p:spTgt spid="5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6" dur="500"/>
                                        <p:tgtEl>
                                          <p:spTgt spid="5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88" dur="500"/>
                                        <p:tgtEl>
                                          <p:spTgt spid="5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2" dur="5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94" dur="5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8" dur="5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0" dur="5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04" dur="500"/>
                                        <p:tgtEl>
                                          <p:spTgt spid="5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6" dur="500"/>
                                        <p:tgtEl>
                                          <p:spTgt spid="5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0" dur="500"/>
                                        <p:tgtEl>
                                          <p:spTgt spid="5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12" dur="500"/>
                                        <p:tgtEl>
                                          <p:spTgt spid="5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6" dur="500"/>
                                        <p:tgtEl>
                                          <p:spTgt spid="5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18" dur="500"/>
                                        <p:tgtEl>
                                          <p:spTgt spid="5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2" dur="500"/>
                                        <p:tgtEl>
                                          <p:spTgt spid="5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24" dur="500"/>
                                        <p:tgtEl>
                                          <p:spTgt spid="5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8" dur="500"/>
                                        <p:tgtEl>
                                          <p:spTgt spid="5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7840" y="1595520"/>
            <a:ext cx="8248320" cy="3660840"/>
            <a:chOff x="447840" y="1595520"/>
            <a:chExt cx="8248320" cy="3660840"/>
          </a:xfrm>
        </p:grpSpPr>
        <p:sp>
          <p:nvSpPr>
            <p:cNvPr id="99" name=""/>
            <p:cNvSpPr/>
            <p:nvPr/>
          </p:nvSpPr>
          <p:spPr>
            <a:xfrm>
              <a:off x="506520" y="1595520"/>
              <a:ext cx="8132760" cy="533160"/>
            </a:xfrm>
            <a:custGeom>
              <a:avLst/>
              <a:gdLst/>
              <a:ahLst/>
              <a:rect l="l" t="t" r="r" b="b"/>
              <a:pathLst>
                <a:path w="5772" h="636">
                  <a:moveTo>
                    <a:pt x="5365" y="62"/>
                  </a:moveTo>
                  <a:cubicBezTo>
                    <a:pt x="5365" y="62"/>
                    <a:pt x="5365" y="62"/>
                    <a:pt x="5365" y="62"/>
                  </a:cubicBezTo>
                  <a:cubicBezTo>
                    <a:pt x="5363" y="59"/>
                    <a:pt x="5361" y="56"/>
                    <a:pt x="5359" y="53"/>
                  </a:cubicBezTo>
                  <a:cubicBezTo>
                    <a:pt x="5359" y="53"/>
                    <a:pt x="5359" y="53"/>
                    <a:pt x="5359" y="53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7" y="50"/>
                    <a:pt x="5355" y="49"/>
                    <a:pt x="5354" y="47"/>
                  </a:cubicBezTo>
                  <a:cubicBezTo>
                    <a:pt x="5354" y="47"/>
                    <a:pt x="5354" y="47"/>
                    <a:pt x="5354" y="46"/>
                  </a:cubicBezTo>
                  <a:cubicBezTo>
                    <a:pt x="5345" y="37"/>
                    <a:pt x="5336" y="29"/>
                    <a:pt x="5325" y="22"/>
                  </a:cubicBezTo>
                  <a:cubicBezTo>
                    <a:pt x="5325" y="22"/>
                    <a:pt x="5325" y="21"/>
                    <a:pt x="5324" y="21"/>
                  </a:cubicBezTo>
                  <a:cubicBezTo>
                    <a:pt x="5323" y="20"/>
                    <a:pt x="5321" y="19"/>
                    <a:pt x="5319" y="18"/>
                  </a:cubicBezTo>
                  <a:cubicBezTo>
                    <a:pt x="5319" y="18"/>
                    <a:pt x="5318" y="18"/>
                    <a:pt x="5318" y="17"/>
                  </a:cubicBezTo>
                  <a:cubicBezTo>
                    <a:pt x="5316" y="16"/>
                    <a:pt x="5314" y="15"/>
                    <a:pt x="5313" y="14"/>
                  </a:cubicBezTo>
                  <a:cubicBezTo>
                    <a:pt x="5312" y="14"/>
                    <a:pt x="5312" y="14"/>
                    <a:pt x="5311" y="14"/>
                  </a:cubicBezTo>
                  <a:cubicBezTo>
                    <a:pt x="5309" y="13"/>
                    <a:pt x="5307" y="12"/>
                    <a:pt x="5305" y="11"/>
                  </a:cubicBezTo>
                  <a:cubicBezTo>
                    <a:pt x="5305" y="11"/>
                    <a:pt x="5305" y="11"/>
                    <a:pt x="5305" y="11"/>
                  </a:cubicBezTo>
                  <a:cubicBezTo>
                    <a:pt x="5300" y="9"/>
                    <a:pt x="5295" y="7"/>
                    <a:pt x="5291" y="6"/>
                  </a:cubicBezTo>
                  <a:cubicBezTo>
                    <a:pt x="5290" y="5"/>
                    <a:pt x="5289" y="5"/>
                    <a:pt x="5289" y="5"/>
                  </a:cubicBezTo>
                  <a:cubicBezTo>
                    <a:pt x="5287" y="5"/>
                    <a:pt x="5285" y="4"/>
                    <a:pt x="5283" y="4"/>
                  </a:cubicBezTo>
                  <a:cubicBezTo>
                    <a:pt x="5283" y="3"/>
                    <a:pt x="5282" y="3"/>
                    <a:pt x="5281" y="3"/>
                  </a:cubicBezTo>
                  <a:cubicBezTo>
                    <a:pt x="5279" y="3"/>
                    <a:pt x="5278" y="2"/>
                    <a:pt x="5276" y="2"/>
                  </a:cubicBezTo>
                  <a:cubicBezTo>
                    <a:pt x="5275" y="2"/>
                    <a:pt x="5274" y="2"/>
                    <a:pt x="5274" y="2"/>
                  </a:cubicBezTo>
                  <a:cubicBezTo>
                    <a:pt x="5272" y="1"/>
                    <a:pt x="5270" y="1"/>
                    <a:pt x="5269" y="1"/>
                  </a:cubicBezTo>
                  <a:cubicBezTo>
                    <a:pt x="5268" y="1"/>
                    <a:pt x="5267" y="1"/>
                    <a:pt x="5266" y="0"/>
                  </a:cubicBezTo>
                  <a:cubicBezTo>
                    <a:pt x="5264" y="0"/>
                    <a:pt x="5263" y="0"/>
                    <a:pt x="5261" y="0"/>
                  </a:cubicBezTo>
                  <a:cubicBezTo>
                    <a:pt x="5260" y="0"/>
                    <a:pt x="5259" y="0"/>
                    <a:pt x="5259" y="0"/>
                  </a:cubicBezTo>
                  <a:cubicBezTo>
                    <a:pt x="5256" y="0"/>
                    <a:pt x="5253" y="0"/>
                    <a:pt x="5251" y="0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19" y="0"/>
                    <a:pt x="516" y="0"/>
                    <a:pt x="514" y="0"/>
                  </a:cubicBezTo>
                  <a:cubicBezTo>
                    <a:pt x="513" y="0"/>
                    <a:pt x="512" y="0"/>
                    <a:pt x="511" y="0"/>
                  </a:cubicBezTo>
                  <a:cubicBezTo>
                    <a:pt x="510" y="0"/>
                    <a:pt x="508" y="0"/>
                    <a:pt x="506" y="0"/>
                  </a:cubicBezTo>
                  <a:cubicBezTo>
                    <a:pt x="505" y="1"/>
                    <a:pt x="504" y="1"/>
                    <a:pt x="503" y="1"/>
                  </a:cubicBezTo>
                  <a:cubicBezTo>
                    <a:pt x="502" y="1"/>
                    <a:pt x="500" y="1"/>
                    <a:pt x="499" y="2"/>
                  </a:cubicBezTo>
                  <a:cubicBezTo>
                    <a:pt x="498" y="2"/>
                    <a:pt x="497" y="2"/>
                    <a:pt x="496" y="2"/>
                  </a:cubicBezTo>
                  <a:cubicBezTo>
                    <a:pt x="494" y="2"/>
                    <a:pt x="493" y="3"/>
                    <a:pt x="491" y="3"/>
                  </a:cubicBezTo>
                  <a:cubicBezTo>
                    <a:pt x="491" y="3"/>
                    <a:pt x="490" y="3"/>
                    <a:pt x="489" y="4"/>
                  </a:cubicBezTo>
                  <a:cubicBezTo>
                    <a:pt x="487" y="4"/>
                    <a:pt x="485" y="4"/>
                    <a:pt x="484" y="5"/>
                  </a:cubicBezTo>
                  <a:cubicBezTo>
                    <a:pt x="483" y="5"/>
                    <a:pt x="482" y="5"/>
                    <a:pt x="482" y="6"/>
                  </a:cubicBezTo>
                  <a:cubicBezTo>
                    <a:pt x="477" y="7"/>
                    <a:pt x="472" y="9"/>
                    <a:pt x="468" y="11"/>
                  </a:cubicBezTo>
                  <a:cubicBezTo>
                    <a:pt x="467" y="11"/>
                    <a:pt x="467" y="11"/>
                    <a:pt x="467" y="11"/>
                  </a:cubicBezTo>
                  <a:cubicBezTo>
                    <a:pt x="465" y="12"/>
                    <a:pt x="463" y="13"/>
                    <a:pt x="461" y="14"/>
                  </a:cubicBezTo>
                  <a:cubicBezTo>
                    <a:pt x="461" y="14"/>
                    <a:pt x="460" y="14"/>
                    <a:pt x="460" y="14"/>
                  </a:cubicBezTo>
                  <a:cubicBezTo>
                    <a:pt x="458" y="15"/>
                    <a:pt x="456" y="16"/>
                    <a:pt x="455" y="17"/>
                  </a:cubicBezTo>
                  <a:cubicBezTo>
                    <a:pt x="454" y="18"/>
                    <a:pt x="454" y="18"/>
                    <a:pt x="453" y="18"/>
                  </a:cubicBezTo>
                  <a:cubicBezTo>
                    <a:pt x="451" y="19"/>
                    <a:pt x="450" y="20"/>
                    <a:pt x="448" y="21"/>
                  </a:cubicBezTo>
                  <a:cubicBezTo>
                    <a:pt x="448" y="21"/>
                    <a:pt x="447" y="22"/>
                    <a:pt x="447" y="22"/>
                  </a:cubicBezTo>
                  <a:cubicBezTo>
                    <a:pt x="445" y="23"/>
                    <a:pt x="443" y="24"/>
                    <a:pt x="441" y="26"/>
                  </a:cubicBezTo>
                  <a:cubicBezTo>
                    <a:pt x="441" y="26"/>
                    <a:pt x="441" y="26"/>
                    <a:pt x="441" y="26"/>
                  </a:cubicBezTo>
                  <a:cubicBezTo>
                    <a:pt x="435" y="30"/>
                    <a:pt x="429" y="35"/>
                    <a:pt x="424" y="41"/>
                  </a:cubicBezTo>
                  <a:cubicBezTo>
                    <a:pt x="424" y="41"/>
                    <a:pt x="424" y="41"/>
                    <a:pt x="424" y="41"/>
                  </a:cubicBezTo>
                  <a:cubicBezTo>
                    <a:pt x="422" y="43"/>
                    <a:pt x="420" y="45"/>
                    <a:pt x="419" y="46"/>
                  </a:cubicBezTo>
                  <a:cubicBezTo>
                    <a:pt x="419" y="47"/>
                    <a:pt x="419" y="47"/>
                    <a:pt x="419" y="47"/>
                  </a:cubicBezTo>
                  <a:cubicBezTo>
                    <a:pt x="417" y="49"/>
                    <a:pt x="415" y="50"/>
                    <a:pt x="414" y="52"/>
                  </a:cubicBezTo>
                  <a:cubicBezTo>
                    <a:pt x="414" y="52"/>
                    <a:pt x="414" y="52"/>
                    <a:pt x="414" y="52"/>
                  </a:cubicBezTo>
                  <a:cubicBezTo>
                    <a:pt x="414" y="52"/>
                    <a:pt x="414" y="52"/>
                    <a:pt x="414" y="52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11" y="56"/>
                    <a:pt x="409" y="59"/>
                    <a:pt x="407" y="62"/>
                  </a:cubicBezTo>
                  <a:cubicBezTo>
                    <a:pt x="407" y="62"/>
                    <a:pt x="407" y="62"/>
                    <a:pt x="407" y="62"/>
                  </a:cubicBezTo>
                  <a:cubicBezTo>
                    <a:pt x="0" y="636"/>
                    <a:pt x="0" y="636"/>
                    <a:pt x="0" y="636"/>
                  </a:cubicBezTo>
                  <a:cubicBezTo>
                    <a:pt x="29" y="603"/>
                    <a:pt x="72" y="582"/>
                    <a:pt x="120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5387" y="582"/>
                    <a:pt x="5387" y="582"/>
                    <a:pt x="5387" y="582"/>
                  </a:cubicBezTo>
                  <a:cubicBezTo>
                    <a:pt x="5653" y="582"/>
                    <a:pt x="5653" y="582"/>
                    <a:pt x="5653" y="582"/>
                  </a:cubicBezTo>
                  <a:cubicBezTo>
                    <a:pt x="5700" y="582"/>
                    <a:pt x="5743" y="603"/>
                    <a:pt x="5772" y="636"/>
                  </a:cubicBezTo>
                  <a:lnTo>
                    <a:pt x="5365" y="62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7840" y="2050920"/>
              <a:ext cx="8248320" cy="3205440"/>
            </a:xfrm>
            <a:prstGeom prst="roundRect">
              <a:avLst>
                <a:gd name="adj" fmla="val 7014"/>
              </a:avLst>
            </a:prstGeom>
            <a:gradFill rotWithShape="0">
              <a:gsLst>
                <a:gs pos="0">
                  <a:srgbClr val="006666"/>
                </a:gs>
                <a:gs pos="100000">
                  <a:srgbClr val="428d8d"/>
                </a:gs>
              </a:gsLst>
              <a:lin ang="13500000"/>
            </a:gra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03440" y="2762280"/>
              <a:ext cx="1168200" cy="1913040"/>
              <a:chOff x="703440" y="2762280"/>
              <a:chExt cx="1168200" cy="1913040"/>
            </a:xfrm>
          </p:grpSpPr>
          <p:sp>
            <p:nvSpPr>
              <p:cNvPr id="102" name=""/>
              <p:cNvSpPr/>
              <p:nvPr/>
            </p:nvSpPr>
            <p:spPr>
              <a:xfrm>
                <a:off x="70344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3440" y="276228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3440" y="444708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344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943280" y="2765520"/>
              <a:ext cx="1168200" cy="1912680"/>
              <a:chOff x="1943280" y="2765520"/>
              <a:chExt cx="1168200" cy="1912680"/>
            </a:xfrm>
          </p:grpSpPr>
          <p:sp>
            <p:nvSpPr>
              <p:cNvPr id="107" name=""/>
              <p:cNvSpPr/>
              <p:nvPr/>
            </p:nvSpPr>
            <p:spPr>
              <a:xfrm>
                <a:off x="1943280" y="2765520"/>
                <a:ext cx="1168200" cy="191268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61">
                    <a:moveTo>
                      <a:pt x="0" y="0"/>
                    </a:moveTo>
                    <a:arcTo wR="0" hR="0" stAng="16200000" swAng="-5400000"/>
                    <a:lnTo>
                      <a:pt x="0" y="35361"/>
                    </a:lnTo>
                    <a:arcTo wR="0" hR="0" stAng="10800000" swAng="-5400000"/>
                    <a:lnTo>
                      <a:pt x="21600" y="35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43280" y="276552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43280" y="444996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43280" y="2765520"/>
                <a:ext cx="1168200" cy="191268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61">
                    <a:moveTo>
                      <a:pt x="0" y="0"/>
                    </a:moveTo>
                    <a:arcTo wR="0" hR="0" stAng="16200000" swAng="-5400000"/>
                    <a:lnTo>
                      <a:pt x="0" y="35361"/>
                    </a:lnTo>
                    <a:arcTo wR="0" hR="0" stAng="10800000" swAng="-5400000"/>
                    <a:lnTo>
                      <a:pt x="21600" y="35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368520" y="2762280"/>
              <a:ext cx="1168560" cy="1913040"/>
              <a:chOff x="3368520" y="2762280"/>
              <a:chExt cx="1168560" cy="1913040"/>
            </a:xfrm>
          </p:grpSpPr>
          <p:sp>
            <p:nvSpPr>
              <p:cNvPr id="112" name=""/>
              <p:cNvSpPr/>
              <p:nvPr/>
            </p:nvSpPr>
            <p:spPr>
              <a:xfrm>
                <a:off x="3368520" y="2762280"/>
                <a:ext cx="1168560" cy="191304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3040"/>
                  <a:gd name="textAreaBottom" fmla="*/ 1913400 h 1913040"/>
                </a:gdLst>
                <a:ahLst/>
                <a:rect l="textAreaLeft" t="textAreaTop" r="textAreaRight" b="textAreaBottom"/>
                <a:pathLst>
                  <a:path w="21600" h="35357">
                    <a:moveTo>
                      <a:pt x="0" y="0"/>
                    </a:moveTo>
                    <a:arcTo wR="0" hR="0" stAng="16200000" swAng="-5400000"/>
                    <a:lnTo>
                      <a:pt x="0" y="35357"/>
                    </a:lnTo>
                    <a:arcTo wR="0" hR="0" stAng="10800000" swAng="-5400000"/>
                    <a:lnTo>
                      <a:pt x="21600" y="353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368520" y="2762280"/>
                <a:ext cx="116856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68520" y="4447080"/>
                <a:ext cx="116856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68520" y="2762280"/>
                <a:ext cx="1168560" cy="191304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3040"/>
                  <a:gd name="textAreaBottom" fmla="*/ 1913400 h 1913040"/>
                </a:gdLst>
                <a:ahLst/>
                <a:rect l="textAreaLeft" t="textAreaTop" r="textAreaRight" b="textAreaBottom"/>
                <a:pathLst>
                  <a:path w="21600" h="35357">
                    <a:moveTo>
                      <a:pt x="0" y="0"/>
                    </a:moveTo>
                    <a:arcTo wR="0" hR="0" stAng="16200000" swAng="-5400000"/>
                    <a:lnTo>
                      <a:pt x="0" y="35357"/>
                    </a:lnTo>
                    <a:arcTo wR="0" hR="0" stAng="10800000" swAng="-5400000"/>
                    <a:lnTo>
                      <a:pt x="21600" y="353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606920" y="2765520"/>
              <a:ext cx="1168560" cy="1912680"/>
              <a:chOff x="4606920" y="2765520"/>
              <a:chExt cx="1168560" cy="1912680"/>
            </a:xfrm>
          </p:grpSpPr>
          <p:sp>
            <p:nvSpPr>
              <p:cNvPr id="117" name=""/>
              <p:cNvSpPr/>
              <p:nvPr/>
            </p:nvSpPr>
            <p:spPr>
              <a:xfrm>
                <a:off x="4606920" y="2765520"/>
                <a:ext cx="1168560" cy="191268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50">
                    <a:moveTo>
                      <a:pt x="0" y="0"/>
                    </a:moveTo>
                    <a:arcTo wR="0" hR="0" stAng="16200000" swAng="-5400000"/>
                    <a:lnTo>
                      <a:pt x="0" y="35350"/>
                    </a:lnTo>
                    <a:arcTo wR="0" hR="0" stAng="10800000" swAng="-5400000"/>
                    <a:lnTo>
                      <a:pt x="21600" y="353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06920" y="2765520"/>
                <a:ext cx="116856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06920" y="4449960"/>
                <a:ext cx="116856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06920" y="2765520"/>
                <a:ext cx="1168560" cy="191268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50">
                    <a:moveTo>
                      <a:pt x="0" y="0"/>
                    </a:moveTo>
                    <a:arcTo wR="0" hR="0" stAng="16200000" swAng="-5400000"/>
                    <a:lnTo>
                      <a:pt x="0" y="35350"/>
                    </a:lnTo>
                    <a:arcTo wR="0" hR="0" stAng="10800000" swAng="-5400000"/>
                    <a:lnTo>
                      <a:pt x="21600" y="353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031080" y="2762280"/>
              <a:ext cx="1168200" cy="1913040"/>
              <a:chOff x="6031080" y="2762280"/>
              <a:chExt cx="1168200" cy="1913040"/>
            </a:xfrm>
          </p:grpSpPr>
          <p:sp>
            <p:nvSpPr>
              <p:cNvPr id="122" name=""/>
              <p:cNvSpPr/>
              <p:nvPr/>
            </p:nvSpPr>
            <p:spPr>
              <a:xfrm>
                <a:off x="603108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31080" y="276228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031080" y="444708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3108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727092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70920" y="2765520"/>
              <a:ext cx="1168200" cy="228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70920" y="4449600"/>
              <a:ext cx="1168200" cy="228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7092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270920" y="2981160"/>
              <a:ext cx="1168200" cy="1473480"/>
              <a:chOff x="7270920" y="2981160"/>
              <a:chExt cx="1168200" cy="1473480"/>
            </a:xfrm>
          </p:grpSpPr>
          <p:sp>
            <p:nvSpPr>
              <p:cNvPr id="131" name=""/>
              <p:cNvSpPr/>
              <p:nvPr/>
            </p:nvSpPr>
            <p:spPr>
              <a:xfrm>
                <a:off x="72709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709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031080" y="2981160"/>
              <a:ext cx="1168200" cy="1473480"/>
              <a:chOff x="6031080" y="2981160"/>
              <a:chExt cx="1168200" cy="1473480"/>
            </a:xfrm>
          </p:grpSpPr>
          <p:sp>
            <p:nvSpPr>
              <p:cNvPr id="134" name=""/>
              <p:cNvSpPr/>
              <p:nvPr/>
            </p:nvSpPr>
            <p:spPr>
              <a:xfrm>
                <a:off x="603108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3108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943280" y="2982960"/>
              <a:ext cx="1168200" cy="1473120"/>
              <a:chOff x="1943280" y="2982960"/>
              <a:chExt cx="1168200" cy="1473120"/>
            </a:xfrm>
          </p:grpSpPr>
          <p:sp>
            <p:nvSpPr>
              <p:cNvPr id="137" name=""/>
              <p:cNvSpPr/>
              <p:nvPr/>
            </p:nvSpPr>
            <p:spPr>
              <a:xfrm>
                <a:off x="194328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4328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03440" y="2982960"/>
              <a:ext cx="1168200" cy="1473120"/>
              <a:chOff x="703440" y="2982960"/>
              <a:chExt cx="1168200" cy="1473120"/>
            </a:xfrm>
          </p:grpSpPr>
          <p:sp>
            <p:nvSpPr>
              <p:cNvPr id="140" name=""/>
              <p:cNvSpPr/>
              <p:nvPr/>
            </p:nvSpPr>
            <p:spPr>
              <a:xfrm>
                <a:off x="70344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344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06920" y="2984400"/>
              <a:ext cx="1168200" cy="1473480"/>
              <a:chOff x="4606920" y="2984400"/>
              <a:chExt cx="1168200" cy="1473480"/>
            </a:xfrm>
          </p:grpSpPr>
          <p:sp>
            <p:nvSpPr>
              <p:cNvPr id="143" name=""/>
              <p:cNvSpPr/>
              <p:nvPr/>
            </p:nvSpPr>
            <p:spPr>
              <a:xfrm>
                <a:off x="4606920" y="298440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06920" y="298440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368520" y="2981160"/>
              <a:ext cx="1168200" cy="1473480"/>
              <a:chOff x="3368520" y="2981160"/>
              <a:chExt cx="1168200" cy="1473480"/>
            </a:xfrm>
          </p:grpSpPr>
          <p:sp>
            <p:nvSpPr>
              <p:cNvPr id="146" name=""/>
              <p:cNvSpPr/>
              <p:nvPr/>
            </p:nvSpPr>
            <p:spPr>
              <a:xfrm>
                <a:off x="33685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685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2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47840" y="2050920"/>
              <a:ext cx="8248320" cy="3205440"/>
            </a:xfrm>
            <a:custGeom>
              <a:avLst/>
              <a:gdLst/>
              <a:ahLst/>
              <a:rect l="l" t="t" r="r" b="b"/>
              <a:pathLst>
                <a:path w="5920" h="2300">
                  <a:moveTo>
                    <a:pt x="5758" y="0"/>
                  </a:moveTo>
                  <a:cubicBezTo>
                    <a:pt x="161" y="0"/>
                    <a:pt x="161" y="0"/>
                    <a:pt x="161" y="0"/>
                  </a:cubicBezTo>
                  <a:cubicBezTo>
                    <a:pt x="72" y="0"/>
                    <a:pt x="0" y="72"/>
                    <a:pt x="0" y="161"/>
                  </a:cubicBezTo>
                  <a:cubicBezTo>
                    <a:pt x="0" y="2138"/>
                    <a:pt x="0" y="2138"/>
                    <a:pt x="0" y="2138"/>
                  </a:cubicBezTo>
                  <a:cubicBezTo>
                    <a:pt x="0" y="2227"/>
                    <a:pt x="72" y="2300"/>
                    <a:pt x="161" y="2300"/>
                  </a:cubicBezTo>
                  <a:cubicBezTo>
                    <a:pt x="5758" y="2300"/>
                    <a:pt x="5758" y="2300"/>
                    <a:pt x="5758" y="2300"/>
                  </a:cubicBezTo>
                  <a:cubicBezTo>
                    <a:pt x="5847" y="2300"/>
                    <a:pt x="5920" y="2227"/>
                    <a:pt x="5920" y="2138"/>
                  </a:cubicBezTo>
                  <a:cubicBezTo>
                    <a:pt x="5920" y="161"/>
                    <a:pt x="5920" y="161"/>
                    <a:pt x="5920" y="161"/>
                  </a:cubicBezTo>
                  <a:cubicBezTo>
                    <a:pt x="5920" y="72"/>
                    <a:pt x="5847" y="0"/>
                    <a:pt x="5758" y="0"/>
                  </a:cubicBezTo>
                  <a:close/>
                  <a:moveTo>
                    <a:pt x="1022" y="1883"/>
                  </a:moveTo>
                  <a:cubicBezTo>
                    <a:pt x="184" y="1883"/>
                    <a:pt x="184" y="1883"/>
                    <a:pt x="184" y="1883"/>
                  </a:cubicBezTo>
                  <a:cubicBezTo>
                    <a:pt x="184" y="510"/>
                    <a:pt x="184" y="510"/>
                    <a:pt x="184" y="510"/>
                  </a:cubicBezTo>
                  <a:cubicBezTo>
                    <a:pt x="1022" y="510"/>
                    <a:pt x="1022" y="510"/>
                    <a:pt x="1022" y="510"/>
                  </a:cubicBezTo>
                  <a:lnTo>
                    <a:pt x="1022" y="1883"/>
                  </a:lnTo>
                  <a:close/>
                  <a:moveTo>
                    <a:pt x="1912" y="1885"/>
                  </a:moveTo>
                  <a:cubicBezTo>
                    <a:pt x="1073" y="1885"/>
                    <a:pt x="1073" y="1885"/>
                    <a:pt x="1073" y="1885"/>
                  </a:cubicBezTo>
                  <a:cubicBezTo>
                    <a:pt x="1073" y="513"/>
                    <a:pt x="1073" y="513"/>
                    <a:pt x="1073" y="513"/>
                  </a:cubicBezTo>
                  <a:cubicBezTo>
                    <a:pt x="1912" y="513"/>
                    <a:pt x="1912" y="513"/>
                    <a:pt x="1912" y="513"/>
                  </a:cubicBezTo>
                  <a:lnTo>
                    <a:pt x="1912" y="1885"/>
                  </a:lnTo>
                  <a:close/>
                  <a:moveTo>
                    <a:pt x="2935" y="1883"/>
                  </a:moveTo>
                  <a:cubicBezTo>
                    <a:pt x="2097" y="1883"/>
                    <a:pt x="2097" y="1883"/>
                    <a:pt x="2097" y="1883"/>
                  </a:cubicBezTo>
                  <a:cubicBezTo>
                    <a:pt x="2097" y="510"/>
                    <a:pt x="2097" y="510"/>
                    <a:pt x="2097" y="510"/>
                  </a:cubicBezTo>
                  <a:cubicBezTo>
                    <a:pt x="2935" y="510"/>
                    <a:pt x="2935" y="510"/>
                    <a:pt x="2935" y="510"/>
                  </a:cubicBezTo>
                  <a:lnTo>
                    <a:pt x="2935" y="1883"/>
                  </a:lnTo>
                  <a:close/>
                  <a:moveTo>
                    <a:pt x="3824" y="1885"/>
                  </a:moveTo>
                  <a:cubicBezTo>
                    <a:pt x="2985" y="1885"/>
                    <a:pt x="2985" y="1885"/>
                    <a:pt x="2985" y="1885"/>
                  </a:cubicBezTo>
                  <a:cubicBezTo>
                    <a:pt x="2985" y="513"/>
                    <a:pt x="2985" y="513"/>
                    <a:pt x="2985" y="513"/>
                  </a:cubicBezTo>
                  <a:cubicBezTo>
                    <a:pt x="3824" y="513"/>
                    <a:pt x="3824" y="513"/>
                    <a:pt x="3824" y="513"/>
                  </a:cubicBezTo>
                  <a:lnTo>
                    <a:pt x="3824" y="1885"/>
                  </a:lnTo>
                  <a:close/>
                  <a:moveTo>
                    <a:pt x="4846" y="1883"/>
                  </a:moveTo>
                  <a:cubicBezTo>
                    <a:pt x="4007" y="1883"/>
                    <a:pt x="4007" y="1883"/>
                    <a:pt x="4007" y="1883"/>
                  </a:cubicBezTo>
                  <a:cubicBezTo>
                    <a:pt x="4007" y="510"/>
                    <a:pt x="4007" y="510"/>
                    <a:pt x="4007" y="510"/>
                  </a:cubicBezTo>
                  <a:cubicBezTo>
                    <a:pt x="4846" y="510"/>
                    <a:pt x="4846" y="510"/>
                    <a:pt x="4846" y="510"/>
                  </a:cubicBezTo>
                  <a:lnTo>
                    <a:pt x="4846" y="1883"/>
                  </a:lnTo>
                  <a:close/>
                  <a:moveTo>
                    <a:pt x="5735" y="1885"/>
                  </a:moveTo>
                  <a:cubicBezTo>
                    <a:pt x="4897" y="1885"/>
                    <a:pt x="4897" y="1885"/>
                    <a:pt x="4897" y="1885"/>
                  </a:cubicBezTo>
                  <a:cubicBezTo>
                    <a:pt x="4897" y="513"/>
                    <a:pt x="4897" y="513"/>
                    <a:pt x="4897" y="513"/>
                  </a:cubicBezTo>
                  <a:cubicBezTo>
                    <a:pt x="5735" y="513"/>
                    <a:pt x="5735" y="513"/>
                    <a:pt x="5735" y="513"/>
                  </a:cubicBezTo>
                  <a:lnTo>
                    <a:pt x="5735" y="1885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428d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8840" y="4732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24280" y="4732920"/>
              <a:ext cx="149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inu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86480" y="4732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c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57560" y="2139120"/>
              <a:ext cx="46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sert 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-913320" y="3472560"/>
              <a:ext cx="3151440" cy="37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14117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3040" y="2085840"/>
              <a:ext cx="8197920" cy="37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14117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62240" y="3373560"/>
              <a:ext cx="120240" cy="693360"/>
              <a:chOff x="3162240" y="3373560"/>
              <a:chExt cx="120240" cy="693360"/>
            </a:xfrm>
          </p:grpSpPr>
          <p:sp>
            <p:nvSpPr>
              <p:cNvPr id="156" name=""/>
              <p:cNvSpPr/>
              <p:nvPr/>
            </p:nvSpPr>
            <p:spPr>
              <a:xfrm>
                <a:off x="3165120" y="3948840"/>
                <a:ext cx="117360" cy="11808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62240" y="3373560"/>
                <a:ext cx="117360" cy="11844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843520" y="3373560"/>
              <a:ext cx="120240" cy="693360"/>
              <a:chOff x="5843520" y="3373560"/>
              <a:chExt cx="120240" cy="693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846400" y="3948840"/>
                <a:ext cx="117360" cy="11808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43520" y="3373560"/>
                <a:ext cx="117360" cy="11844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06320" y="2768760"/>
              <a:ext cx="7731000" cy="1904760"/>
              <a:chOff x="706320" y="2768760"/>
              <a:chExt cx="7731000" cy="19047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06320" y="2768760"/>
                <a:ext cx="1164960" cy="1904400"/>
                <a:chOff x="706320" y="2768760"/>
                <a:chExt cx="1164960" cy="190440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715680" y="2778480"/>
                  <a:ext cx="1145880" cy="1884960"/>
                  <a:chOff x="715680" y="2778480"/>
                  <a:chExt cx="1145880" cy="18849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71568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2216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70632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1944720" y="2768760"/>
                <a:ext cx="1164960" cy="1904400"/>
                <a:chOff x="1944720" y="2768760"/>
                <a:chExt cx="1164960" cy="19044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1954080" y="2778480"/>
                  <a:ext cx="1145880" cy="1884960"/>
                  <a:chOff x="1954080" y="2778480"/>
                  <a:chExt cx="1145880" cy="1884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195408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6056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194472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272360" y="2768760"/>
                <a:ext cx="1164960" cy="1904400"/>
                <a:chOff x="7272360" y="2768760"/>
                <a:chExt cx="1164960" cy="190440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7282080" y="2778480"/>
                  <a:ext cx="1145880" cy="1884960"/>
                  <a:chOff x="7282080" y="2778480"/>
                  <a:chExt cx="1145880" cy="18849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>
                    <a:off x="840204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>
                    <a:off x="728172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 flipH="1">
                  <a:off x="727236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31440" y="2768760"/>
                <a:ext cx="1164600" cy="1904400"/>
                <a:chOff x="6031440" y="2768760"/>
                <a:chExt cx="1164600" cy="190440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6041160" y="2778480"/>
                  <a:ext cx="1145520" cy="1884960"/>
                  <a:chOff x="6041160" y="2778480"/>
                  <a:chExt cx="1145520" cy="1884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>
                    <a:off x="716076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>
                    <a:off x="6041160" y="4637880"/>
                    <a:ext cx="11390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"/>
                <p:cNvSpPr/>
                <p:nvPr/>
              </p:nvSpPr>
              <p:spPr>
                <a:xfrm flipH="1">
                  <a:off x="6031080" y="2768760"/>
                  <a:ext cx="116460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3375000" y="4638600"/>
                <a:ext cx="1152720" cy="34920"/>
              </a:xfrm>
              <a:prstGeom prst="rect">
                <a:avLst/>
              </a:prstGeom>
              <a:solidFill>
                <a:srgbClr val="4d4d4d"/>
              </a:solidFill>
              <a:ln w="1152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18080" y="4638600"/>
                <a:ext cx="1152360" cy="34920"/>
              </a:xfrm>
              <a:prstGeom prst="rect">
                <a:avLst/>
              </a:prstGeom>
              <a:solidFill>
                <a:srgbClr val="4d4d4d"/>
              </a:solidFill>
              <a:ln w="1152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16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16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17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17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18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19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20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20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20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23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24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3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34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4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0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6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417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9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420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2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423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424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425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6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7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8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429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430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1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2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3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434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435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6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7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8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439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440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1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2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3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5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29" dur="indefinite" restart="never" nodeType="tmRoot">
          <p:childTnLst>
            <p:seq>
              <p:cTn id="6930" dur="indefinite" nodeType="mainSeq">
                <p:childTnLst>
                  <p:par>
                    <p:cTn id="6931" fill="hold">
                      <p:stCondLst>
                        <p:cond delay="0"/>
                      </p:stCondLst>
                      <p:childTnLst>
                        <p:par>
                          <p:cTn id="6932" fill="hold">
                            <p:stCondLst>
                              <p:cond delay="0"/>
                            </p:stCondLst>
                            <p:childTnLst>
                              <p:par>
                                <p:cTn id="693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4" dur="500"/>
                                        <p:tgtEl>
                                          <p:spTgt spid="5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7" dur="500"/>
                                        <p:tgtEl>
                                          <p:spTgt spid="5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40" dur="500"/>
                                        <p:tgtEl>
                                          <p:spTgt spid="5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4" dur="500"/>
                                        <p:tgtEl>
                                          <p:spTgt spid="5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7" dur="500"/>
                                        <p:tgtEl>
                                          <p:spTgt spid="5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0" dur="500"/>
                                        <p:tgtEl>
                                          <p:spTgt spid="5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52" dur="500"/>
                                        <p:tgtEl>
                                          <p:spTgt spid="5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6" dur="500"/>
                                        <p:tgtEl>
                                          <p:spTgt spid="5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58" dur="500"/>
                                        <p:tgtEl>
                                          <p:spTgt spid="5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2" dur="500"/>
                                        <p:tgtEl>
                                          <p:spTgt spid="5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64" dur="500"/>
                                        <p:tgtEl>
                                          <p:spTgt spid="5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8" dur="500"/>
                                        <p:tgtEl>
                                          <p:spTgt spid="5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70" dur="500"/>
                                        <p:tgtEl>
                                          <p:spTgt spid="5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74" dur="500"/>
                                        <p:tgtEl>
                                          <p:spTgt spid="5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76" dur="500"/>
                                        <p:tgtEl>
                                          <p:spTgt spid="5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0" dur="500"/>
                                        <p:tgtEl>
                                          <p:spTgt spid="5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82" dur="500"/>
                                        <p:tgtEl>
                                          <p:spTgt spid="5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6" dur="500"/>
                                        <p:tgtEl>
                                          <p:spTgt spid="5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88" dur="500"/>
                                        <p:tgtEl>
                                          <p:spTgt spid="5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92" dur="500"/>
                                        <p:tgtEl>
                                          <p:spTgt spid="5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94" dur="500"/>
                                        <p:tgtEl>
                                          <p:spTgt spid="5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98" dur="500"/>
                                        <p:tgtEl>
                                          <p:spTgt spid="5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00" dur="500"/>
                                        <p:tgtEl>
                                          <p:spTgt spid="5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4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7" dur="500"/>
                                        <p:tgtEl>
                                          <p:spTgt spid="5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09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12" dur="500"/>
                                        <p:tgtEl>
                                          <p:spTgt spid="5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16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18" dur="500"/>
                                        <p:tgtEl>
                                          <p:spTgt spid="5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22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24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28" dur="5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30" dur="5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34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36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0" dur="500"/>
                                        <p:tgtEl>
                                          <p:spTgt spid="5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42" dur="500"/>
                                        <p:tgtEl>
                                          <p:spTgt spid="5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6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48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2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54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8" dur="500"/>
                                        <p:tgtEl>
                                          <p:spTgt spid="5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60" dur="500"/>
                                        <p:tgtEl>
                                          <p:spTgt spid="5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64" dur="500"/>
                                        <p:tgtEl>
                                          <p:spTgt spid="5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66" dur="500"/>
                                        <p:tgtEl>
                                          <p:spTgt spid="5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70" dur="5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72" dur="5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75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79" dur="5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2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84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8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90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94" dur="500"/>
                                        <p:tgtEl>
                                          <p:spTgt spid="5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96" dur="500"/>
                                        <p:tgtEl>
                                          <p:spTgt spid="5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0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02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6" dur="500"/>
                                        <p:tgtEl>
                                          <p:spTgt spid="5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08" dur="500"/>
                                        <p:tgtEl>
                                          <p:spTgt spid="5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2" dur="500"/>
                                        <p:tgtEl>
                                          <p:spTgt spid="5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14" dur="500"/>
                                        <p:tgtEl>
                                          <p:spTgt spid="5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8" dur="500"/>
                                        <p:tgtEl>
                                          <p:spTgt spid="5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20" dur="500"/>
                                        <p:tgtEl>
                                          <p:spTgt spid="5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4" dur="5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26" dur="5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0" dur="500"/>
                                        <p:tgtEl>
                                          <p:spTgt spid="5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32" dur="500"/>
                                        <p:tgtEl>
                                          <p:spTgt spid="5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6" dur="500"/>
                                        <p:tgtEl>
                                          <p:spTgt spid="5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38" dur="5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42" dur="500"/>
                                        <p:tgtEl>
                                          <p:spTgt spid="5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44" dur="500"/>
                                        <p:tgtEl>
                                          <p:spTgt spid="5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48" dur="500"/>
                                        <p:tgtEl>
                                          <p:spTgt spid="5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50" dur="500"/>
                                        <p:tgtEl>
                                          <p:spTgt spid="5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54" dur="500"/>
                                        <p:tgtEl>
                                          <p:spTgt spid="5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56" dur="500"/>
                                        <p:tgtEl>
                                          <p:spTgt spid="5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0" dur="500"/>
                                        <p:tgtEl>
                                          <p:spTgt spid="5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62" dur="500"/>
                                        <p:tgtEl>
                                          <p:spTgt spid="5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6" dur="500"/>
                                        <p:tgtEl>
                                          <p:spTgt spid="5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68" dur="500"/>
                                        <p:tgtEl>
                                          <p:spTgt spid="5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72" dur="500"/>
                                        <p:tgtEl>
                                          <p:spTgt spid="5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74" dur="500"/>
                                        <p:tgtEl>
                                          <p:spTgt spid="5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78" dur="500"/>
                                        <p:tgtEl>
                                          <p:spTgt spid="5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80" dur="500"/>
                                        <p:tgtEl>
                                          <p:spTgt spid="5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84" dur="500"/>
                                        <p:tgtEl>
                                          <p:spTgt spid="5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86" dur="500"/>
                                        <p:tgtEl>
                                          <p:spTgt spid="5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7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90" dur="500"/>
                                        <p:tgtEl>
                                          <p:spTgt spid="5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92" dur="500"/>
                                        <p:tgtEl>
                                          <p:spTgt spid="5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7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96" dur="500"/>
                                        <p:tgtEl>
                                          <p:spTgt spid="5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98" dur="500"/>
                                        <p:tgtEl>
                                          <p:spTgt spid="5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7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02" dur="500"/>
                                        <p:tgtEl>
                                          <p:spTgt spid="5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04" dur="500"/>
                                        <p:tgtEl>
                                          <p:spTgt spid="5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08" dur="500"/>
                                        <p:tgtEl>
                                          <p:spTgt spid="5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10" dur="500"/>
                                        <p:tgtEl>
                                          <p:spTgt spid="5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14" dur="500"/>
                                        <p:tgtEl>
                                          <p:spTgt spid="5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16" dur="500"/>
                                        <p:tgtEl>
                                          <p:spTgt spid="5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0" dur="5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22" dur="5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6" dur="500"/>
                                        <p:tgtEl>
                                          <p:spTgt spid="5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28" dur="500"/>
                                        <p:tgtEl>
                                          <p:spTgt spid="5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32" dur="5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34" dur="5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38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40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44" dur="500"/>
                                        <p:tgtEl>
                                          <p:spTgt spid="5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46" dur="500"/>
                                        <p:tgtEl>
                                          <p:spTgt spid="5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50" dur="500"/>
                                        <p:tgtEl>
                                          <p:spTgt spid="5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52" dur="500"/>
                                        <p:tgtEl>
                                          <p:spTgt spid="5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56" dur="500"/>
                                        <p:tgtEl>
                                          <p:spTgt spid="5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58" dur="500"/>
                                        <p:tgtEl>
                                          <p:spTgt spid="5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62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64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68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70" dur="500"/>
                                        <p:tgtEl>
                                          <p:spTgt spid="5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74" dur="500"/>
                                        <p:tgtEl>
                                          <p:spTgt spid="5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76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0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2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6" dur="500"/>
                                        <p:tgtEl>
                                          <p:spTgt spid="5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8" dur="500"/>
                                        <p:tgtEl>
                                          <p:spTgt spid="5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92" dur="5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94" dur="5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98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00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04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06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0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2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6" dur="500"/>
                                        <p:tgtEl>
                                          <p:spTgt spid="5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8" dur="500"/>
                                        <p:tgtEl>
                                          <p:spTgt spid="5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7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22" dur="500"/>
                                        <p:tgtEl>
                                          <p:spTgt spid="5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24" dur="500"/>
                                        <p:tgtEl>
                                          <p:spTgt spid="5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7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28" dur="500"/>
                                        <p:tgtEl>
                                          <p:spTgt spid="5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30" dur="500"/>
                                        <p:tgtEl>
                                          <p:spTgt spid="5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7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34" dur="500"/>
                                        <p:tgtEl>
                                          <p:spTgt spid="5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3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45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8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45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3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46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8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46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3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47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4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2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49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5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49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49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52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53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6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63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0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2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8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709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1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712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4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715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716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717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9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0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721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722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3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4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5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726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727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8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9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0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731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732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4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5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7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5" dur="indefinite" restart="never" nodeType="tmRoot">
          <p:childTnLst>
            <p:seq>
              <p:cTn id="7336" dur="indefinite" nodeType="mainSeq">
                <p:childTnLst>
                  <p:par>
                    <p:cTn id="7337" fill="hold">
                      <p:stCondLst>
                        <p:cond delay="0"/>
                      </p:stCondLst>
                      <p:childTnLst>
                        <p:par>
                          <p:cTn id="7338" fill="hold">
                            <p:stCondLst>
                              <p:cond delay="0"/>
                            </p:stCondLst>
                            <p:childTnLst>
                              <p:par>
                                <p:cTn id="733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0" dur="500"/>
                                        <p:tgtEl>
                                          <p:spTgt spid="5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3" dur="500"/>
                                        <p:tgtEl>
                                          <p:spTgt spid="5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6" dur="500"/>
                                        <p:tgtEl>
                                          <p:spTgt spid="5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0" dur="500"/>
                                        <p:tgtEl>
                                          <p:spTgt spid="5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3" dur="500"/>
                                        <p:tgtEl>
                                          <p:spTgt spid="5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6" dur="500"/>
                                        <p:tgtEl>
                                          <p:spTgt spid="5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58" dur="500"/>
                                        <p:tgtEl>
                                          <p:spTgt spid="5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2" dur="5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64" dur="5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8" dur="500"/>
                                        <p:tgtEl>
                                          <p:spTgt spid="5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70" dur="500"/>
                                        <p:tgtEl>
                                          <p:spTgt spid="5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4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76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80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2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86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8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92" dur="5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94" dur="5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98" dur="5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00" dur="5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04" dur="500"/>
                                        <p:tgtEl>
                                          <p:spTgt spid="5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06" dur="500"/>
                                        <p:tgtEl>
                                          <p:spTgt spid="5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0" dur="500"/>
                                        <p:tgtEl>
                                          <p:spTgt spid="5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3" dur="500"/>
                                        <p:tgtEl>
                                          <p:spTgt spid="5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15" dur="500"/>
                                        <p:tgtEl>
                                          <p:spTgt spid="5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18" dur="500"/>
                                        <p:tgtEl>
                                          <p:spTgt spid="5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2" dur="5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24" dur="500"/>
                                        <p:tgtEl>
                                          <p:spTgt spid="5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8" dur="500"/>
                                        <p:tgtEl>
                                          <p:spTgt spid="5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30" dur="500"/>
                                        <p:tgtEl>
                                          <p:spTgt spid="5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34" dur="500"/>
                                        <p:tgtEl>
                                          <p:spTgt spid="5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36" dur="500"/>
                                        <p:tgtEl>
                                          <p:spTgt spid="5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40" dur="500"/>
                                        <p:tgtEl>
                                          <p:spTgt spid="5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2" dur="500"/>
                                        <p:tgtEl>
                                          <p:spTgt spid="5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46" dur="500"/>
                                        <p:tgtEl>
                                          <p:spTgt spid="5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8" dur="500"/>
                                        <p:tgtEl>
                                          <p:spTgt spid="5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2" dur="500"/>
                                        <p:tgtEl>
                                          <p:spTgt spid="5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54" dur="500"/>
                                        <p:tgtEl>
                                          <p:spTgt spid="5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8" dur="500"/>
                                        <p:tgtEl>
                                          <p:spTgt spid="5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60" dur="500"/>
                                        <p:tgtEl>
                                          <p:spTgt spid="5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64" dur="500"/>
                                        <p:tgtEl>
                                          <p:spTgt spid="5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66" dur="500"/>
                                        <p:tgtEl>
                                          <p:spTgt spid="5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70" dur="500"/>
                                        <p:tgtEl>
                                          <p:spTgt spid="5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72" dur="500"/>
                                        <p:tgtEl>
                                          <p:spTgt spid="5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76" dur="500"/>
                                        <p:tgtEl>
                                          <p:spTgt spid="5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78" dur="500"/>
                                        <p:tgtEl>
                                          <p:spTgt spid="5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81" dur="5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5" dur="5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8" dur="500"/>
                                        <p:tgtEl>
                                          <p:spTgt spid="5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90" dur="500"/>
                                        <p:tgtEl>
                                          <p:spTgt spid="5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94" dur="500"/>
                                        <p:tgtEl>
                                          <p:spTgt spid="5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96" dur="500"/>
                                        <p:tgtEl>
                                          <p:spTgt spid="5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0" dur="500"/>
                                        <p:tgtEl>
                                          <p:spTgt spid="5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2" dur="500"/>
                                        <p:tgtEl>
                                          <p:spTgt spid="5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6" dur="500"/>
                                        <p:tgtEl>
                                          <p:spTgt spid="5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8" dur="500"/>
                                        <p:tgtEl>
                                          <p:spTgt spid="5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12" dur="500"/>
                                        <p:tgtEl>
                                          <p:spTgt spid="5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14" dur="500"/>
                                        <p:tgtEl>
                                          <p:spTgt spid="5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18" dur="500"/>
                                        <p:tgtEl>
                                          <p:spTgt spid="5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20" dur="500"/>
                                        <p:tgtEl>
                                          <p:spTgt spid="5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24" dur="500"/>
                                        <p:tgtEl>
                                          <p:spTgt spid="5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26" dur="500"/>
                                        <p:tgtEl>
                                          <p:spTgt spid="5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0" dur="500"/>
                                        <p:tgtEl>
                                          <p:spTgt spid="5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2" dur="500"/>
                                        <p:tgtEl>
                                          <p:spTgt spid="5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6" dur="500"/>
                                        <p:tgtEl>
                                          <p:spTgt spid="5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8" dur="500"/>
                                        <p:tgtEl>
                                          <p:spTgt spid="5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2" dur="500"/>
                                        <p:tgtEl>
                                          <p:spTgt spid="5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44" dur="5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8" dur="500"/>
                                        <p:tgtEl>
                                          <p:spTgt spid="5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50" dur="500"/>
                                        <p:tgtEl>
                                          <p:spTgt spid="5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54" dur="5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56" dur="500"/>
                                        <p:tgtEl>
                                          <p:spTgt spid="5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0" dur="500"/>
                                        <p:tgtEl>
                                          <p:spTgt spid="5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2" dur="500"/>
                                        <p:tgtEl>
                                          <p:spTgt spid="5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6" dur="500"/>
                                        <p:tgtEl>
                                          <p:spTgt spid="5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8" dur="500"/>
                                        <p:tgtEl>
                                          <p:spTgt spid="5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2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74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8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80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84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86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90" dur="500"/>
                                        <p:tgtEl>
                                          <p:spTgt spid="5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92" dur="500"/>
                                        <p:tgtEl>
                                          <p:spTgt spid="5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7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96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98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7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2" dur="500"/>
                                        <p:tgtEl>
                                          <p:spTgt spid="5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04" dur="500"/>
                                        <p:tgtEl>
                                          <p:spTgt spid="5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7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8" dur="500"/>
                                        <p:tgtEl>
                                          <p:spTgt spid="5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10" dur="500"/>
                                        <p:tgtEl>
                                          <p:spTgt spid="5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14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16" dur="5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0" dur="500"/>
                                        <p:tgtEl>
                                          <p:spTgt spid="5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2" dur="500"/>
                                        <p:tgtEl>
                                          <p:spTgt spid="5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8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2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34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8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40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44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46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50" dur="500"/>
                                        <p:tgtEl>
                                          <p:spTgt spid="5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52" dur="500"/>
                                        <p:tgtEl>
                                          <p:spTgt spid="5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56" dur="5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58" dur="5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2" dur="500"/>
                                        <p:tgtEl>
                                          <p:spTgt spid="5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64" dur="500"/>
                                        <p:tgtEl>
                                          <p:spTgt spid="5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8" dur="500"/>
                                        <p:tgtEl>
                                          <p:spTgt spid="5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70" dur="500"/>
                                        <p:tgtEl>
                                          <p:spTgt spid="5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74" dur="500"/>
                                        <p:tgtEl>
                                          <p:spTgt spid="5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76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0" dur="500"/>
                                        <p:tgtEl>
                                          <p:spTgt spid="5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2" dur="500"/>
                                        <p:tgtEl>
                                          <p:spTgt spid="5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6" dur="500"/>
                                        <p:tgtEl>
                                          <p:spTgt spid="5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8" dur="500"/>
                                        <p:tgtEl>
                                          <p:spTgt spid="5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92" dur="500"/>
                                        <p:tgtEl>
                                          <p:spTgt spid="5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94" dur="500"/>
                                        <p:tgtEl>
                                          <p:spTgt spid="5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98" dur="500"/>
                                        <p:tgtEl>
                                          <p:spTgt spid="5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00" dur="500"/>
                                        <p:tgtEl>
                                          <p:spTgt spid="5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04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0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0" dur="5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12" dur="5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6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18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2" dur="500"/>
                                        <p:tgtEl>
                                          <p:spTgt spid="5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24" dur="500"/>
                                        <p:tgtEl>
                                          <p:spTgt spid="5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7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8" dur="500"/>
                                        <p:tgtEl>
                                          <p:spTgt spid="5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30" dur="500"/>
                                        <p:tgtEl>
                                          <p:spTgt spid="5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7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34" dur="500"/>
                                        <p:tgtEl>
                                          <p:spTgt spid="5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36" dur="500"/>
                                        <p:tgtEl>
                                          <p:spTgt spid="5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7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40" dur="500"/>
                                        <p:tgtEl>
                                          <p:spTgt spid="5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5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74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0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75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5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75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0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76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5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76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4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78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7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78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79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1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82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3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82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2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9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4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0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6001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3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6004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6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6007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6008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6009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1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2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6013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6014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6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7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6018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6019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1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2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6023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6024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6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7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9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1" dur="indefinite" restart="never" nodeType="tmRoot">
          <p:childTnLst>
            <p:seq>
              <p:cTn id="7742" dur="indefinite" nodeType="mainSeq">
                <p:childTnLst>
                  <p:par>
                    <p:cTn id="7743" fill="hold">
                      <p:stCondLst>
                        <p:cond delay="0"/>
                      </p:stCondLst>
                      <p:childTnLst>
                        <p:par>
                          <p:cTn id="7744" fill="hold">
                            <p:stCondLst>
                              <p:cond delay="0"/>
                            </p:stCondLst>
                            <p:childTnLst>
                              <p:par>
                                <p:cTn id="774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6" dur="500"/>
                                        <p:tgtEl>
                                          <p:spTgt spid="5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9" dur="500"/>
                                        <p:tgtEl>
                                          <p:spTgt spid="5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52" dur="500"/>
                                        <p:tgtEl>
                                          <p:spTgt spid="5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6" dur="500"/>
                                        <p:tgtEl>
                                          <p:spTgt spid="5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9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2" dur="500"/>
                                        <p:tgtEl>
                                          <p:spTgt spid="5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64" dur="500"/>
                                        <p:tgtEl>
                                          <p:spTgt spid="5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8" dur="500"/>
                                        <p:tgtEl>
                                          <p:spTgt spid="5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70" dur="500"/>
                                        <p:tgtEl>
                                          <p:spTgt spid="5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74" dur="500"/>
                                        <p:tgtEl>
                                          <p:spTgt spid="5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76" dur="500"/>
                                        <p:tgtEl>
                                          <p:spTgt spid="5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0" dur="500"/>
                                        <p:tgtEl>
                                          <p:spTgt spid="5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82" dur="500"/>
                                        <p:tgtEl>
                                          <p:spTgt spid="5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6" dur="500"/>
                                        <p:tgtEl>
                                          <p:spTgt spid="5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88" dur="500"/>
                                        <p:tgtEl>
                                          <p:spTgt spid="5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92" dur="500"/>
                                        <p:tgtEl>
                                          <p:spTgt spid="5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94" dur="500"/>
                                        <p:tgtEl>
                                          <p:spTgt spid="5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98" dur="5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0" dur="5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04" dur="500"/>
                                        <p:tgtEl>
                                          <p:spTgt spid="5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6" dur="500"/>
                                        <p:tgtEl>
                                          <p:spTgt spid="5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0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12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6" dur="500"/>
                                        <p:tgtEl>
                                          <p:spTgt spid="5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9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21" dur="500"/>
                                        <p:tgtEl>
                                          <p:spTgt spid="5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24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28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3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34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36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0" dur="500"/>
                                        <p:tgtEl>
                                          <p:spTgt spid="5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42" dur="500"/>
                                        <p:tgtEl>
                                          <p:spTgt spid="5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6" dur="500"/>
                                        <p:tgtEl>
                                          <p:spTgt spid="5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48" dur="500"/>
                                        <p:tgtEl>
                                          <p:spTgt spid="5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52" dur="500"/>
                                        <p:tgtEl>
                                          <p:spTgt spid="5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54" dur="500"/>
                                        <p:tgtEl>
                                          <p:spTgt spid="5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58" dur="500"/>
                                        <p:tgtEl>
                                          <p:spTgt spid="5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0" dur="500"/>
                                        <p:tgtEl>
                                          <p:spTgt spid="5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64" dur="500"/>
                                        <p:tgtEl>
                                          <p:spTgt spid="5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6" dur="500"/>
                                        <p:tgtEl>
                                          <p:spTgt spid="5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70" dur="500"/>
                                        <p:tgtEl>
                                          <p:spTgt spid="5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72" dur="500"/>
                                        <p:tgtEl>
                                          <p:spTgt spid="5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76" dur="500"/>
                                        <p:tgtEl>
                                          <p:spTgt spid="5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78" dur="500"/>
                                        <p:tgtEl>
                                          <p:spTgt spid="5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82" dur="500"/>
                                        <p:tgtEl>
                                          <p:spTgt spid="5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84" dur="500"/>
                                        <p:tgtEl>
                                          <p:spTgt spid="5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87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1" dur="500"/>
                                        <p:tgtEl>
                                          <p:spTgt spid="5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4" dur="5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96" dur="5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0" dur="500"/>
                                        <p:tgtEl>
                                          <p:spTgt spid="5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02" dur="500"/>
                                        <p:tgtEl>
                                          <p:spTgt spid="5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6" dur="500"/>
                                        <p:tgtEl>
                                          <p:spTgt spid="5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08" dur="500"/>
                                        <p:tgtEl>
                                          <p:spTgt spid="5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12" dur="500"/>
                                        <p:tgtEl>
                                          <p:spTgt spid="5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14" dur="500"/>
                                        <p:tgtEl>
                                          <p:spTgt spid="5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18" dur="500"/>
                                        <p:tgtEl>
                                          <p:spTgt spid="5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0" dur="500"/>
                                        <p:tgtEl>
                                          <p:spTgt spid="5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24" dur="500"/>
                                        <p:tgtEl>
                                          <p:spTgt spid="5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6" dur="500"/>
                                        <p:tgtEl>
                                          <p:spTgt spid="5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30" dur="500"/>
                                        <p:tgtEl>
                                          <p:spTgt spid="5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32" dur="500"/>
                                        <p:tgtEl>
                                          <p:spTgt spid="5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36" dur="500"/>
                                        <p:tgtEl>
                                          <p:spTgt spid="5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38" dur="500"/>
                                        <p:tgtEl>
                                          <p:spTgt spid="5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2" dur="500"/>
                                        <p:tgtEl>
                                          <p:spTgt spid="5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44" dur="500"/>
                                        <p:tgtEl>
                                          <p:spTgt spid="5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8" dur="500"/>
                                        <p:tgtEl>
                                          <p:spTgt spid="5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50" dur="500"/>
                                        <p:tgtEl>
                                          <p:spTgt spid="5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54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56" dur="500"/>
                                        <p:tgtEl>
                                          <p:spTgt spid="5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0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62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6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68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2" dur="500"/>
                                        <p:tgtEl>
                                          <p:spTgt spid="5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74" dur="500"/>
                                        <p:tgtEl>
                                          <p:spTgt spid="5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8" dur="500"/>
                                        <p:tgtEl>
                                          <p:spTgt spid="5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0" dur="500"/>
                                        <p:tgtEl>
                                          <p:spTgt spid="5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84" dur="500"/>
                                        <p:tgtEl>
                                          <p:spTgt spid="5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6" dur="500"/>
                                        <p:tgtEl>
                                          <p:spTgt spid="5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90" dur="500"/>
                                        <p:tgtEl>
                                          <p:spTgt spid="5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92" dur="500"/>
                                        <p:tgtEl>
                                          <p:spTgt spid="5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96" dur="500"/>
                                        <p:tgtEl>
                                          <p:spTgt spid="5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98" dur="500"/>
                                        <p:tgtEl>
                                          <p:spTgt spid="5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8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2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04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8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8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10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14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16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8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0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2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8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6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8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8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32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34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8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38" dur="500"/>
                                        <p:tgtEl>
                                          <p:spTgt spid="5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0" dur="500"/>
                                        <p:tgtEl>
                                          <p:spTgt spid="5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8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44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6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8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50" dur="500"/>
                                        <p:tgtEl>
                                          <p:spTgt spid="5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52" dur="500"/>
                                        <p:tgtEl>
                                          <p:spTgt spid="5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8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56" dur="500"/>
                                        <p:tgtEl>
                                          <p:spTgt spid="5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58" dur="500"/>
                                        <p:tgtEl>
                                          <p:spTgt spid="5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8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2" dur="5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64" dur="5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8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8" dur="500"/>
                                        <p:tgtEl>
                                          <p:spTgt spid="5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70" dur="500"/>
                                        <p:tgtEl>
                                          <p:spTgt spid="5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8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74" dur="500"/>
                                        <p:tgtEl>
                                          <p:spTgt spid="5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76" dur="500"/>
                                        <p:tgtEl>
                                          <p:spTgt spid="5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8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0" dur="500"/>
                                        <p:tgtEl>
                                          <p:spTgt spid="5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82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8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6" dur="500"/>
                                        <p:tgtEl>
                                          <p:spTgt spid="5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88" dur="500"/>
                                        <p:tgtEl>
                                          <p:spTgt spid="5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8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2" dur="500"/>
                                        <p:tgtEl>
                                          <p:spTgt spid="5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94" dur="500"/>
                                        <p:tgtEl>
                                          <p:spTgt spid="5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8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8" dur="500"/>
                                        <p:tgtEl>
                                          <p:spTgt spid="5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0" dur="500"/>
                                        <p:tgtEl>
                                          <p:spTgt spid="5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8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4" dur="5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6" dur="5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8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10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12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8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16" dur="500"/>
                                        <p:tgtEl>
                                          <p:spTgt spid="5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18" dur="500"/>
                                        <p:tgtEl>
                                          <p:spTgt spid="5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8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2" dur="5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24" dur="5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8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8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30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8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34" dur="500"/>
                                        <p:tgtEl>
                                          <p:spTgt spid="5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36" dur="500"/>
                                        <p:tgtEl>
                                          <p:spTgt spid="5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8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0" dur="500"/>
                                        <p:tgtEl>
                                          <p:spTgt spid="5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42" dur="500"/>
                                        <p:tgtEl>
                                          <p:spTgt spid="5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8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6" dur="500"/>
                                        <p:tgtEl>
                                          <p:spTgt spid="5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PlaceHolder 1"/>
          <p:cNvSpPr>
            <a:spLocks noGrp="1"/>
          </p:cNvSpPr>
          <p:nvPr>
            <p:ph/>
          </p:nvPr>
        </p:nvSpPr>
        <p:spPr>
          <a:xfrm>
            <a:off x="610920" y="1827360"/>
            <a:ext cx="807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Назовите персонажей рассказа «Анна на шее».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При каких обстоятельствах Анна вышла замуж?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Чего она ожидала от замужества и что получила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С какой целью автор делит рассказ на две части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Какую информацию дают вам портретные характеристики героев?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Кто из героев вызывает у вас сочувствие и почему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От чего зависит, изменится человек в лучшую сторону или нет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9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9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0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0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1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3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3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3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4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7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7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50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53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56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68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73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8" name="PlaceHolder 1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 называется брак между 52-летним мужчиной и 18-летней девушкой? Воспользуйтесь ресурсами сети интернет и найдите одноименную картину. Может ли она служить иллюстрацией к данному рассказу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Неравный брак»</a:t>
            </a:r>
            <a:br>
              <a:rPr sz="36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асилий Владимирович Пукирёв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1" name="" descr="Pukirev ner brak.jpg"/>
          <p:cNvPicPr/>
          <p:nvPr/>
        </p:nvPicPr>
        <p:blipFill>
          <a:blip r:embed="rId1"/>
          <a:stretch/>
        </p:blipFill>
        <p:spPr>
          <a:xfrm>
            <a:off x="2340000" y="1557360"/>
            <a:ext cx="45543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2" name="PlaceHolder 1"/>
          <p:cNvSpPr>
            <a:spLocks noGrp="1"/>
          </p:cNvSpPr>
          <p:nvPr>
            <p:ph/>
          </p:nvPr>
        </p:nvSpPr>
        <p:spPr>
          <a:xfrm>
            <a:off x="899640" y="182736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«А чтобы после не пришлось раскаиваться, нужно…» (Какие ошибки в поведении героини рассказа А.П. Чехова вам бы хотелось исправить?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3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7313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Ю.Д. Левитанск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99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нщину, религию, дорогу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ьяволу служить или пророку -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 для любви и для молитв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пагу для дуэли, меч для битв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Щит и латы, посох и заплат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ру окончательной расплат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бираю тоже, как умею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и к кому претензий не имею 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5" name="" descr=""/>
          <p:cNvPicPr/>
          <p:nvPr/>
        </p:nvPicPr>
        <p:blipFill>
          <a:blip r:embed="rId1"/>
          <a:stretch/>
        </p:blipFill>
        <p:spPr>
          <a:xfrm>
            <a:off x="7740720" y="551808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7" dur="indefinite" restart="never" nodeType="tmRoot">
          <p:childTnLst>
            <p:seq>
              <p:cTn id="8148" restart="whenNotActive" nodeType="interactiveSeq" fill="hold">
                <p:stCondLst>
                  <p:cond evt="onClick">
                    <p:tgtEl>
                      <p:spTgt spid="6045"/>
                    </p:tgtEl>
                  </p:cond>
                </p:stCondLst>
                <p:childTnLst>
                  <p:par>
                    <p:cTn id="8149" fill="hold">
                      <p:stCondLst>
                        <p:cond evt="onClick">
                          <p:tgtEl>
                            <p:spTgt spid="6045"/>
                          </p:tgtEl>
                        </p:cond>
                      </p:stCondLst>
                      <p:childTnLst>
                        <p:par>
                          <p:cTn id="8150" fill="hold">
                            <p:stCondLst>
                              <p:cond delay="0"/>
                            </p:stCondLst>
                            <p:childTnLst>
                              <p:par>
                                <p:cTn id="8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2" dur="167824" fill="hold"/>
                                        <p:tgtEl>
                                          <p:spTgt spid="60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8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9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9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0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0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2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2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3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6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6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73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742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745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748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760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765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77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78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78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79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79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81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82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82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85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85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9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9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02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034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037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040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041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4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052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057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9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4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8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07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07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08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08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09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11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11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11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14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14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8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2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2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1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326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329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332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333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6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338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343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344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6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348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349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1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4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2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4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7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9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6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8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8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4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8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0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4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2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4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2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0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8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2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0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8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4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0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6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2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6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8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4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6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2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4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8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0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6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6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8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74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6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0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8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2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4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0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2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8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2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4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36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36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37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37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38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40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40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40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4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4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5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5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0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1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618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621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624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625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8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630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631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3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635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636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8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640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641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4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0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3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6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0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68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2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8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0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6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2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8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04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0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4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8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2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34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8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0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6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2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2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4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8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0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4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6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0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82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88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91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5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4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6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6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8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2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8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0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4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6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0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2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8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2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4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8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0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0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6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8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4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0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4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6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0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2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8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2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14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8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4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6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2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6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4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5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5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6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8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0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4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0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2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6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8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2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4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4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6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0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8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2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3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0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4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6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0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65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66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66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67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67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69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69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70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73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73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3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9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910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913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916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917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918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0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1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922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5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927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928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0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932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933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5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0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2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6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9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74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0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6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0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2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6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8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2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04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0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4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6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0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2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6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9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1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40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4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46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0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6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8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2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4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8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0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4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6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0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6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8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2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4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7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1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4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6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2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6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8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2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24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8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0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4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6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0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2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6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8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2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54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8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0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4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6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0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2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6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8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2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84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8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0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4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0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2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6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8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2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14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8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0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4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6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2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6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8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2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44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8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0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4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6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0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2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6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8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2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74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8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4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6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0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2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6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2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4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8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0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4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6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2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8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2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4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8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0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4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6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0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52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6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94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95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95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96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96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98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8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98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99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02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02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5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202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205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208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209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210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2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3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214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215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7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8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219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220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2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224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225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7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8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0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7" dur="indefinite" restart="never" nodeType="tmRoot">
          <p:childTnLst>
            <p:seq>
              <p:cTn id="2458" dur="indefinite" nodeType="mainSeq">
                <p:childTnLst>
                  <p:par>
                    <p:cTn id="2459" fill="hold">
                      <p:stCondLst>
                        <p:cond delay="0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2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5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8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2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5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0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4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6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0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2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6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2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04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8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10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4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16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0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2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6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8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2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5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37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0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4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6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0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2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6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8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2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8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0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4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6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0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2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6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8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2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94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8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0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3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7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0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2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6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8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2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24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8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0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4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6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0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2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6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8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2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54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8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0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4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6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0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2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6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8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2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84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8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0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4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6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0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2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6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8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2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14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8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0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4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6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0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2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6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8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2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44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8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0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4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6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0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2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6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8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2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74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8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4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6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0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2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6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8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8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0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4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6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0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2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6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8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2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8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0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4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0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2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6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8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2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0:58Z</dcterms:created>
  <dc:creator>1</dc:creator>
  <dc:description/>
  <dc:language>en-US</dc:language>
  <cp:lastModifiedBy>1</cp:lastModifiedBy>
  <dcterms:modified xsi:type="dcterms:W3CDTF">2012-03-12T15:48:02Z</dcterms:modified>
  <cp:revision>5</cp:revision>
  <dc:subject/>
  <dc:title>Антон Павлович Чехов</dc:title>
</cp:coreProperties>
</file>